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5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8.png" ContentType="image/png"/>
  <Override PartName="/ppt/media/image3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3751F-9D80-4C13-AE1E-B72C63161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697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03B87-D71F-42C6-868B-97D25F8CE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697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1960" y="3697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A089D-E6D9-4953-8926-8640A66F9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5960" y="2781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60280" y="2781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697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5960" y="3697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60280" y="3697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32B08-883C-4B77-8555-703CCCF18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3200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6480000" cy="1001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32000" y="3697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680DC-5935-43F3-9E5E-F5D460AB9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11960" y="3697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32000" y="3697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32000" y="3697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32000" y="3697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11960" y="3697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5960" y="2781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0280" y="2781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32000" y="3697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5960" y="3697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60280" y="3697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DE75F-1065-4DB0-9A17-243F289D4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7B2EB-6A87-45E6-9D0F-1F5722921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15928-7F74-49F8-9D63-33CF513AF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6480000" cy="1001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A86B8-B14F-41C4-AED5-358F39C78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697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5646A-0F7E-43C9-B5FF-E86911CF0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1960" y="3697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35B11-420D-4689-83B3-E2E539420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697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B5EE2-1FA2-4209-A343-55FFEEC64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crr.cz/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1280" y="6381720"/>
            <a:ext cx="684360" cy="4399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332000" y="6340320"/>
            <a:ext cx="684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entrum pro regionální rozvoj ČR; Vinohradská 46, 120 00 Praha 2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el.: + 420 221 580 201; Fax: + 420 221 580 284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crr.cz</a:t>
            </a:r>
            <a:r>
              <a:rPr b="0" lang="en-US" sz="1400" spc="-1" strike="noStrike">
                <a:solidFill>
                  <a:srgbClr val="ffe46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29200" y="6381720"/>
            <a:ext cx="5144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7691-8118-4891-A891-1409841019A9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1547640" y="6004080"/>
            <a:ext cx="7347240" cy="853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Lucida Sans Unicode"/>
              <a:buChar char="⋐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Lucida Sans Unicode"/>
              <a:buChar char="⋐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Lucida Sans Unicode"/>
              <a:buChar char="⋐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rukturalni-fondy.cz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jiru@crr.cz" TargetMode="External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640" y="119700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Lucida Sans Unicode"/>
              </a:rPr>
              <a:t>Zlepšení prostředí v problémových sídlištích</a:t>
            </a:r>
            <a:endParaRPr b="0" lang="en-US" sz="4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692000" y="3500280"/>
            <a:ext cx="68403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entrum pro regionální rozvoj Č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Podporované aktivity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1571760" y="1285920"/>
            <a:ext cx="5752800" cy="2124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3"/>
          <a:stretch/>
        </p:blipFill>
        <p:spPr>
          <a:xfrm>
            <a:off x="2071800" y="3714840"/>
            <a:ext cx="5753160" cy="1514520"/>
          </a:xfrm>
          <a:prstGeom prst="rect">
            <a:avLst/>
          </a:prstGeom>
          <a:ln w="0">
            <a:noFill/>
          </a:ln>
        </p:spPr>
      </p:pic>
      <p:sp>
        <p:nvSpPr>
          <p:cNvPr id="135" name="Zahnutá šipka doleva 7"/>
          <p:cNvSpPr/>
          <p:nvPr/>
        </p:nvSpPr>
        <p:spPr>
          <a:xfrm>
            <a:off x="7215120" y="2857680"/>
            <a:ext cx="857160" cy="1643040"/>
          </a:xfrm>
          <a:custGeom>
            <a:avLst/>
            <a:gdLst>
              <a:gd name="textAreaLeft" fmla="*/ 114840 w 857160"/>
              <a:gd name="textAreaRight" fmla="*/ 742320 w 857160"/>
              <a:gd name="textAreaTop" fmla="*/ 330120 h 1643040"/>
              <a:gd name="textAreaBottom" fmla="*/ 120564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87" stAng="-5400000" swAng="5400000"/>
                <a:lnTo>
                  <a:pt x="21600" y="11504"/>
                </a:lnTo>
                <a:arcTo wR="21600" hR="8687" stAng="0" swAng="4326532"/>
                <a:lnTo>
                  <a:pt x="2781" y="21528"/>
                </a:lnTo>
                <a:lnTo>
                  <a:pt x="0" y="18783"/>
                </a:lnTo>
                <a:lnTo>
                  <a:pt x="2781" y="15893"/>
                </a:lnTo>
                <a:lnTo>
                  <a:pt x="2781" y="17302"/>
                </a:lnTo>
                <a:arcTo wR="21600" hR="8687" stAng="4326532" swAng="-4099686"/>
                <a:lnTo>
                  <a:pt x="21314" y="10096"/>
                </a:lnTo>
                <a:arcTo wR="21600" hR="8687" stAng="-226846" swAng="-5173154"/>
                <a:close/>
              </a:path>
              <a:path fill="darkenLess" w="21600" h="21600">
                <a:moveTo>
                  <a:pt x="0" y="0"/>
                </a:moveTo>
                <a:arcTo wR="21600" hR="8687" stAng="-5400000" swAng="5400000"/>
                <a:lnTo>
                  <a:pt x="21600" y="11504"/>
                </a:lnTo>
                <a:arcTo wR="21600" hR="8687" stAng="0" swAng="-226846"/>
                <a:lnTo>
                  <a:pt x="21314" y="10096"/>
                </a:lnTo>
                <a:arcTo wR="21600" hR="8687" stAng="-226846" swAng="-5173154"/>
                <a:close/>
              </a:path>
            </a:pathLst>
          </a:custGeom>
          <a:solidFill>
            <a:srgbClr val="993300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aoblený obdélníkový popisek 8"/>
          <p:cNvSpPr/>
          <p:nvPr/>
        </p:nvSpPr>
        <p:spPr>
          <a:xfrm>
            <a:off x="1071720" y="5143680"/>
            <a:ext cx="1285560" cy="714240"/>
          </a:xfrm>
          <a:prstGeom prst="wedgeRoundRectCallout">
            <a:avLst>
              <a:gd name="adj1" fmla="val 134634"/>
              <a:gd name="adj2" fmla="val -81666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bídka z číselníku aktiv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C54D8-ADCC-4F37-A1AC-89D2D2627020}" type="slidenum">
              <a:t>10</a:t>
            </a:fld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Území dopadu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857160" y="1071720"/>
            <a:ext cx="5753160" cy="2790720"/>
          </a:xfrm>
          <a:prstGeom prst="rect">
            <a:avLst/>
          </a:prstGeom>
          <a:ln w="0">
            <a:noFill/>
          </a:ln>
        </p:spPr>
      </p:pic>
      <p:sp>
        <p:nvSpPr>
          <p:cNvPr id="142" name="Zaoblený obdélníkový popisek 7"/>
          <p:cNvSpPr/>
          <p:nvPr/>
        </p:nvSpPr>
        <p:spPr>
          <a:xfrm>
            <a:off x="4572000" y="714240"/>
            <a:ext cx="1357200" cy="571680"/>
          </a:xfrm>
          <a:prstGeom prst="wedgeRoundRectCallout">
            <a:avLst>
              <a:gd name="adj1" fmla="val -92458"/>
              <a:gd name="adj2" fmla="val 128185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edání přes fil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3"/>
          <a:stretch/>
        </p:blipFill>
        <p:spPr>
          <a:xfrm>
            <a:off x="5286240" y="2071800"/>
            <a:ext cx="3571920" cy="4144680"/>
          </a:xfrm>
          <a:prstGeom prst="rect">
            <a:avLst/>
          </a:prstGeom>
          <a:ln w="0">
            <a:noFill/>
          </a:ln>
        </p:spPr>
      </p:pic>
      <p:sp>
        <p:nvSpPr>
          <p:cNvPr id="144" name="Zaoblený obdélníkový popisek 9"/>
          <p:cNvSpPr/>
          <p:nvPr/>
        </p:nvSpPr>
        <p:spPr>
          <a:xfrm>
            <a:off x="3286080" y="4143240"/>
            <a:ext cx="1214640" cy="714600"/>
          </a:xfrm>
          <a:prstGeom prst="wedgeRoundRectCallout">
            <a:avLst>
              <a:gd name="adj1" fmla="val 195537"/>
              <a:gd name="adj2" fmla="val -134212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 číselníku vybrat mě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aoblený obdélníkový popisek 10"/>
          <p:cNvSpPr/>
          <p:nvPr/>
        </p:nvSpPr>
        <p:spPr>
          <a:xfrm>
            <a:off x="3214800" y="5214960"/>
            <a:ext cx="1214280" cy="714240"/>
          </a:xfrm>
          <a:prstGeom prst="wedgeRoundRectCallout">
            <a:avLst>
              <a:gd name="adj1" fmla="val 126583"/>
              <a:gd name="adj2" fmla="val 39597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plnit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94BC1-C3CF-4B95-B6B6-6BAE0C83F6EB}" type="slidenum">
              <a:t>11</a:t>
            </a:fld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Popis projektu 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3000240" y="714240"/>
            <a:ext cx="5429520" cy="5267520"/>
          </a:xfrm>
          <a:prstGeom prst="rect">
            <a:avLst/>
          </a:prstGeom>
          <a:ln w="0">
            <a:noFill/>
          </a:ln>
        </p:spPr>
      </p:pic>
      <p:sp>
        <p:nvSpPr>
          <p:cNvPr id="151" name="Zaoblený obdélníkový popisek 6"/>
          <p:cNvSpPr/>
          <p:nvPr/>
        </p:nvSpPr>
        <p:spPr>
          <a:xfrm>
            <a:off x="357120" y="2857680"/>
            <a:ext cx="1500120" cy="1428480"/>
          </a:xfrm>
          <a:prstGeom prst="wedgeRoundRectCallout">
            <a:avLst>
              <a:gd name="adj1" fmla="val 126736"/>
              <a:gd name="adj2" fmla="val -176657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yplnit všechna žlutá pole dle plánovaného zámě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59701-86B4-48FC-8FF7-FB01E96DAB9C}" type="slidenum">
              <a:t>12</a:t>
            </a:fld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Personální zajištění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2000160" y="928800"/>
            <a:ext cx="5500800" cy="5216400"/>
          </a:xfrm>
          <a:prstGeom prst="rect">
            <a:avLst/>
          </a:prstGeom>
          <a:ln w="0">
            <a:noFill/>
          </a:ln>
        </p:spPr>
      </p:pic>
      <p:sp>
        <p:nvSpPr>
          <p:cNvPr id="157" name="Zaoblený obdélníkový popisek 6"/>
          <p:cNvSpPr/>
          <p:nvPr/>
        </p:nvSpPr>
        <p:spPr>
          <a:xfrm>
            <a:off x="285840" y="2071800"/>
            <a:ext cx="1357200" cy="857160"/>
          </a:xfrm>
          <a:prstGeom prst="wedgeRoundRectCallout">
            <a:avLst>
              <a:gd name="adj1" fmla="val 93597"/>
              <a:gd name="adj2" fmla="val -36305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případě přidání další oso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aoblený obdélníkový popisek 7"/>
          <p:cNvSpPr/>
          <p:nvPr/>
        </p:nvSpPr>
        <p:spPr>
          <a:xfrm>
            <a:off x="6929280" y="2500200"/>
            <a:ext cx="1714680" cy="857520"/>
          </a:xfrm>
          <a:prstGeom prst="wedgeRoundRectCallout">
            <a:avLst>
              <a:gd name="adj1" fmla="val -122444"/>
              <a:gd name="adj2" fmla="val -77851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ždou další osobu „Uložit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9963-7CA6-4A61-8BF0-EC4C50F46861}" type="slidenum">
              <a:t>13</a:t>
            </a:fld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ástupný symbol pro datum 4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Zástupný symbol pro zápatí 5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ástupný symbol pro číslo snímku 6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Žadatel projektu 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2143080" y="830160"/>
            <a:ext cx="5996160" cy="5027760"/>
          </a:xfrm>
          <a:prstGeom prst="rect">
            <a:avLst/>
          </a:prstGeom>
          <a:ln w="0">
            <a:noFill/>
          </a:ln>
        </p:spPr>
      </p:pic>
      <p:sp>
        <p:nvSpPr>
          <p:cNvPr id="164" name="Zaoblený obdélníkový popisek 6"/>
          <p:cNvSpPr/>
          <p:nvPr/>
        </p:nvSpPr>
        <p:spPr>
          <a:xfrm>
            <a:off x="357120" y="1285920"/>
            <a:ext cx="1643040" cy="1500120"/>
          </a:xfrm>
          <a:prstGeom prst="wedgeRoundRectCallout">
            <a:avLst>
              <a:gd name="adj1" fmla="val 77296"/>
              <a:gd name="adj2" fmla="val 35875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plnit IČ žadatele a použít tlačítko „Validace ARES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Vývojový diagram: postup 7"/>
          <p:cNvSpPr/>
          <p:nvPr/>
        </p:nvSpPr>
        <p:spPr>
          <a:xfrm>
            <a:off x="1857240" y="5214960"/>
            <a:ext cx="6215040" cy="785880"/>
          </a:xfrm>
          <a:prstGeom prst="flowChartProcess">
            <a:avLst/>
          </a:prstGeom>
          <a:solidFill>
            <a:srgbClr val="d9d9d9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ozornění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 případě, že žadatel nemá IČ (např. soukromá osoba) musí zkontaktovat kontaktní osoby na MM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6695-B0FC-4028-941D-0DF286300B57}" type="slidenum">
              <a:t>14</a:t>
            </a:fld>
          </a:p>
        </p:txBody>
      </p:sp>
    </p:spTree>
  </p:cSld>
  <p:transition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Obrázek 7" descr="žádost4.bmp"/>
          <p:cNvPicPr/>
          <p:nvPr/>
        </p:nvPicPr>
        <p:blipFill>
          <a:blip r:embed="rId2"/>
          <a:stretch/>
        </p:blipFill>
        <p:spPr>
          <a:xfrm>
            <a:off x="1000080" y="928800"/>
            <a:ext cx="6643800" cy="4643280"/>
          </a:xfrm>
          <a:prstGeom prst="rect">
            <a:avLst/>
          </a:prstGeom>
          <a:ln w="0">
            <a:noFill/>
          </a:ln>
        </p:spPr>
      </p:pic>
      <p:sp>
        <p:nvSpPr>
          <p:cNvPr id="167" name="Zástupný symbol pro datum 4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ástupný symbol pro zápatí 5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ástupný symbol pro číslo snímku 6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Žadatel projektu 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71" name="TextovéPole 6"/>
          <p:cNvSpPr/>
          <p:nvPr/>
        </p:nvSpPr>
        <p:spPr>
          <a:xfrm>
            <a:off x="1357200" y="92880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yp podni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ovéPole 8"/>
          <p:cNvSpPr/>
          <p:nvPr/>
        </p:nvSpPr>
        <p:spPr>
          <a:xfrm>
            <a:off x="1857240" y="3571920"/>
            <a:ext cx="3429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Žadatelé do 5.2.b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ký pod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řední pod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ý pod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aoblený obdélníkový popisek 10"/>
          <p:cNvSpPr/>
          <p:nvPr/>
        </p:nvSpPr>
        <p:spPr>
          <a:xfrm>
            <a:off x="6858000" y="1643040"/>
            <a:ext cx="1785960" cy="642960"/>
          </a:xfrm>
          <a:prstGeom prst="wedgeRoundRectCallout">
            <a:avLst>
              <a:gd name="adj1" fmla="val -55777"/>
              <a:gd name="adj2" fmla="val 114689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ktivita : revitalizace veřejného prostranství – žadatel obec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bdélník 11"/>
          <p:cNvSpPr/>
          <p:nvPr/>
        </p:nvSpPr>
        <p:spPr>
          <a:xfrm>
            <a:off x="5000760" y="3714840"/>
            <a:ext cx="2571480" cy="1714320"/>
          </a:xfrm>
          <a:prstGeom prst="rect">
            <a:avLst/>
          </a:prstGeom>
          <a:solidFill>
            <a:srgbClr val="d9d9d9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ozorněn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kud nebude město v aktivitě regenerace bytových domů využívat možnosti bonifikace pro střední a malý podnik – považuje se každý žadatel z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lký podni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63AA0-0F8C-4C24-8151-610A1DAA0EB6}" type="slidenum">
              <a:t>15</a:t>
            </a:fld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Zástupný symbol pro číslo snímku 1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0096-8C53-43CE-9E6A-787BBF08BD45}" type="slidenum">
              <a:rPr b="0" lang="en-US" sz="1400" spc="-1" strike="noStrike">
                <a:solidFill>
                  <a:srgbClr val="ffe46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7" descr="žádost3.bmp"/>
          <p:cNvPicPr/>
          <p:nvPr/>
        </p:nvPicPr>
        <p:blipFill>
          <a:blip r:embed="rId2"/>
          <a:stretch/>
        </p:blipFill>
        <p:spPr>
          <a:xfrm>
            <a:off x="785880" y="857160"/>
            <a:ext cx="7619760" cy="5357880"/>
          </a:xfrm>
          <a:prstGeom prst="rect">
            <a:avLst/>
          </a:prstGeom>
          <a:ln w="0">
            <a:noFill/>
          </a:ln>
        </p:spPr>
      </p:pic>
      <p:sp>
        <p:nvSpPr>
          <p:cNvPr id="180" name="Obdélník 8"/>
          <p:cNvSpPr/>
          <p:nvPr/>
        </p:nvSpPr>
        <p:spPr>
          <a:xfrm>
            <a:off x="2643120" y="1143000"/>
            <a:ext cx="36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yp žadatel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Přímá spojovací šipka 17"/>
          <p:cNvCxnSpPr/>
          <p:nvPr/>
        </p:nvCxnSpPr>
        <p:spPr>
          <a:xfrm flipH="1" flipV="1">
            <a:off x="2642400" y="4071240"/>
            <a:ext cx="500760" cy="7866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82" name="Vývojový diagram: alternativní postup 22"/>
          <p:cNvSpPr/>
          <p:nvPr/>
        </p:nvSpPr>
        <p:spPr>
          <a:xfrm>
            <a:off x="1928880" y="4857840"/>
            <a:ext cx="4286160" cy="1143000"/>
          </a:xfrm>
          <a:prstGeom prst="flowChartAlternateProcess">
            <a:avLst/>
          </a:prstGeom>
          <a:solidFill>
            <a:srgbClr val="ffe7b7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případě, že obec žádá do 5.2b vybere typ žadatele „VBD-obec“ (vlastník bytového do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Žadatel projektu 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84" name="Vývojový diagram: alternativní postup 22"/>
          <p:cNvSpPr/>
          <p:nvPr/>
        </p:nvSpPr>
        <p:spPr>
          <a:xfrm>
            <a:off x="6072120" y="714240"/>
            <a:ext cx="2143080" cy="928800"/>
          </a:xfrm>
          <a:prstGeom prst="flowChartAlternateProcess">
            <a:avLst/>
          </a:prstGeom>
          <a:solidFill>
            <a:srgbClr val="ffe7b7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ybrat z číselník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B5399-C72A-4672-989D-A94CF6E654A3}" type="slidenum">
              <a:t>16</a:t>
            </a:fld>
          </a:p>
        </p:txBody>
      </p:sp>
    </p:spTree>
  </p:cSld>
  <p:transition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Adresa žadatele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2071800" y="785880"/>
            <a:ext cx="5715000" cy="5286240"/>
          </a:xfrm>
          <a:prstGeom prst="rect">
            <a:avLst/>
          </a:prstGeom>
          <a:ln w="0">
            <a:noFill/>
          </a:ln>
        </p:spPr>
      </p:pic>
      <p:sp>
        <p:nvSpPr>
          <p:cNvPr id="190" name="Zaoblený obdélníkový popisek 6"/>
          <p:cNvSpPr/>
          <p:nvPr/>
        </p:nvSpPr>
        <p:spPr>
          <a:xfrm>
            <a:off x="6000840" y="3143160"/>
            <a:ext cx="2714400" cy="1571760"/>
          </a:xfrm>
          <a:prstGeom prst="wedgeRoundRectCallout">
            <a:avLst>
              <a:gd name="adj1" fmla="val -75435"/>
              <a:gd name="adj2" fmla="val 22078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brat všechny typy adre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dresa pro doručo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dresa statutár. zástup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ficiální adres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aoblený obdélníkový popisek 7"/>
          <p:cNvSpPr/>
          <p:nvPr/>
        </p:nvSpPr>
        <p:spPr>
          <a:xfrm>
            <a:off x="714240" y="4572000"/>
            <a:ext cx="1071720" cy="571680"/>
          </a:xfrm>
          <a:prstGeom prst="wedgeRoundRectCallout">
            <a:avLst>
              <a:gd name="adj1" fmla="val 93240"/>
              <a:gd name="adj2" fmla="val 32185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ýběr adre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Zaoblený obdélníkový popisek 8"/>
          <p:cNvSpPr/>
          <p:nvPr/>
        </p:nvSpPr>
        <p:spPr>
          <a:xfrm>
            <a:off x="6786720" y="1357200"/>
            <a:ext cx="1571400" cy="500040"/>
          </a:xfrm>
          <a:prstGeom prst="wedgeRoundRectCallout">
            <a:avLst>
              <a:gd name="adj1" fmla="val -64925"/>
              <a:gd name="adj2" fmla="val 166439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ždou adresu uložit !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8EC94-0966-4320-A7BD-9684231D2480}" type="slidenum">
              <a:t>17</a:t>
            </a:fld>
          </a:p>
        </p:txBody>
      </p:sp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Adresa žadatele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1643040" y="1428840"/>
            <a:ext cx="5753160" cy="1314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3"/>
          <a:stretch/>
        </p:blipFill>
        <p:spPr>
          <a:xfrm>
            <a:off x="642960" y="3286080"/>
            <a:ext cx="8150040" cy="1857600"/>
          </a:xfrm>
          <a:prstGeom prst="rect">
            <a:avLst/>
          </a:prstGeom>
          <a:ln w="0">
            <a:noFill/>
          </a:ln>
        </p:spPr>
      </p:pic>
      <p:sp>
        <p:nvSpPr>
          <p:cNvPr id="199" name="Popisek se šipkou dolů 7"/>
          <p:cNvSpPr/>
          <p:nvPr/>
        </p:nvSpPr>
        <p:spPr>
          <a:xfrm>
            <a:off x="2928960" y="785880"/>
            <a:ext cx="3429000" cy="500040"/>
          </a:xfrm>
          <a:prstGeom prst="downArrowCallout">
            <a:avLst>
              <a:gd name="adj1" fmla="val 25019"/>
              <a:gd name="adj2" fmla="val 25017"/>
              <a:gd name="adj3" fmla="val 25000"/>
              <a:gd name="adj4" fmla="val 64977"/>
            </a:avLst>
          </a:prstGeom>
          <a:solidFill>
            <a:srgbClr val="d9d9d9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Číselní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Zaoblený obdélníkový popisek 8"/>
          <p:cNvSpPr/>
          <p:nvPr/>
        </p:nvSpPr>
        <p:spPr>
          <a:xfrm>
            <a:off x="4857840" y="2571840"/>
            <a:ext cx="1500120" cy="571320"/>
          </a:xfrm>
          <a:prstGeom prst="wedgeRoundRectCallout">
            <a:avLst>
              <a:gd name="adj1" fmla="val -21476"/>
              <a:gd name="adj2" fmla="val 145027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tr - vyhledá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CD88-E5D8-4CE8-9AD3-940F727E73E1}" type="slidenum">
              <a:t>18</a:t>
            </a:fld>
          </a:p>
        </p:txBody>
      </p:sp>
    </p:spTree>
  </p:cSld>
  <p:transition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Osoby žadatele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3500280" y="714240"/>
            <a:ext cx="5643720" cy="4854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1214280" y="5000760"/>
            <a:ext cx="4643640" cy="1238040"/>
          </a:xfrm>
          <a:prstGeom prst="rect">
            <a:avLst/>
          </a:prstGeom>
          <a:ln w="0">
            <a:noFill/>
          </a:ln>
        </p:spPr>
      </p:pic>
      <p:sp>
        <p:nvSpPr>
          <p:cNvPr id="207" name="Zaoblený obdélníkový popisek 7"/>
          <p:cNvSpPr/>
          <p:nvPr/>
        </p:nvSpPr>
        <p:spPr>
          <a:xfrm>
            <a:off x="6500880" y="5143680"/>
            <a:ext cx="2071800" cy="1000080"/>
          </a:xfrm>
          <a:prstGeom prst="wedgeRoundRectCallout">
            <a:avLst>
              <a:gd name="adj1" fmla="val -59861"/>
              <a:gd name="adj2" fmla="val -187888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dna osoba musí být „Hlavní kontaktní osoba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78C4E-C6F8-49B7-80BE-AF0B2590DA63}" type="slidenum">
              <a:t>19</a:t>
            </a:fld>
          </a:p>
        </p:txBody>
      </p:sp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8920" y="2000160"/>
            <a:ext cx="72216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Benefit7 </a:t>
            </a:r>
            <a:endParaRPr b="0" lang="en-US" sz="48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9F78E-5BA4-4FB4-AD05-D1B3C6015716}" type="slidenum">
              <a:t>2</a:t>
            </a:fld>
          </a:p>
        </p:txBody>
      </p:sp>
    </p:spTree>
  </p:cSld>
  <p:transition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Indikátory projektu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2"/>
          <a:stretch/>
        </p:blipFill>
        <p:spPr>
          <a:xfrm>
            <a:off x="1285920" y="642960"/>
            <a:ext cx="5753160" cy="4943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3"/>
          <a:stretch/>
        </p:blipFill>
        <p:spPr>
          <a:xfrm>
            <a:off x="3390840" y="5072040"/>
            <a:ext cx="5753160" cy="1171440"/>
          </a:xfrm>
          <a:prstGeom prst="rect">
            <a:avLst/>
          </a:prstGeom>
          <a:ln w="0">
            <a:noFill/>
          </a:ln>
        </p:spPr>
      </p:pic>
      <p:sp>
        <p:nvSpPr>
          <p:cNvPr id="214" name="Zaoblený obdélníkový popisek 7"/>
          <p:cNvSpPr/>
          <p:nvPr/>
        </p:nvSpPr>
        <p:spPr>
          <a:xfrm>
            <a:off x="571680" y="5000760"/>
            <a:ext cx="2071440" cy="1500120"/>
          </a:xfrm>
          <a:prstGeom prst="wedgeRoundRectCallout">
            <a:avLst>
              <a:gd name="adj1" fmla="val 87226"/>
              <a:gd name="adj2" fmla="val 10851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ritérium je povinné při plánování aktivity vedoucí ke snížení energetické náročnosti budo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471F0-27BC-4A95-A484-EEF40A638732}" type="slidenum">
              <a:t>20</a:t>
            </a:fld>
          </a:p>
        </p:txBody>
      </p:sp>
    </p:spTree>
  </p:cSld>
  <p:transition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ovéPole 10"/>
          <p:cNvSpPr/>
          <p:nvPr/>
        </p:nvSpPr>
        <p:spPr>
          <a:xfrm>
            <a:off x="1214280" y="928800"/>
            <a:ext cx="6786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ípadě, že žadatel plánuje realizaci investic, které vedou ke snížení energetické náročnosti budov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záložce je třeba vybrat alespoň jedno enviromentální kritérium (kvantifikovatelné,nekvantifikovatelné, popřípadě oboj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ovéPole 6"/>
          <p:cNvSpPr/>
          <p:nvPr/>
        </p:nvSpPr>
        <p:spPr>
          <a:xfrm>
            <a:off x="1357200" y="3786120"/>
            <a:ext cx="6572520" cy="946440"/>
          </a:xfrm>
          <a:prstGeom prst="rect">
            <a:avLst/>
          </a:prstGeom>
          <a:solidFill>
            <a:srgbClr val="d9d9d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poručen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yberte nekvantifikované kritérium :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řispěje realizace projektu k úsporám energie či ke zvýšení výroby energie z obnovitelných zdrojů 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e46f"/>
                </a:solidFill>
                <a:latin typeface="Lucida Sans Unicode"/>
              </a:rPr>
              <a:t>Enviromentální kritéria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6A23F-D702-437E-9F25-D259A8DC2F97}" type="slidenum">
              <a:t>21</a:t>
            </a:fld>
          </a:p>
        </p:txBody>
      </p:sp>
    </p:spTree>
  </p:cSld>
  <p:transition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Obrázek 7" descr="žádost 2.bmp"/>
          <p:cNvPicPr/>
          <p:nvPr/>
        </p:nvPicPr>
        <p:blipFill>
          <a:blip r:embed="rId2"/>
          <a:stretch/>
        </p:blipFill>
        <p:spPr>
          <a:xfrm>
            <a:off x="5072040" y="1571760"/>
            <a:ext cx="4071960" cy="2857320"/>
          </a:xfrm>
          <a:prstGeom prst="rect">
            <a:avLst/>
          </a:prstGeom>
          <a:ln w="0">
            <a:noFill/>
          </a:ln>
        </p:spPr>
      </p:pic>
      <p:sp>
        <p:nvSpPr>
          <p:cNvPr id="222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28800" y="-21420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e46f"/>
                </a:solidFill>
                <a:latin typeface="Lucida Sans Unicode"/>
              </a:rPr>
              <a:t>Enviromentální kritéria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3"/>
          <a:stretch/>
        </p:blipFill>
        <p:spPr>
          <a:xfrm>
            <a:off x="928800" y="714240"/>
            <a:ext cx="4471920" cy="4700880"/>
          </a:xfrm>
          <a:prstGeom prst="rect">
            <a:avLst/>
          </a:prstGeom>
          <a:ln w="0">
            <a:noFill/>
          </a:ln>
        </p:spPr>
      </p:pic>
      <p:sp>
        <p:nvSpPr>
          <p:cNvPr id="227" name="Zaoblený obdélníkový popisek 6"/>
          <p:cNvSpPr/>
          <p:nvPr/>
        </p:nvSpPr>
        <p:spPr>
          <a:xfrm>
            <a:off x="5429160" y="4500720"/>
            <a:ext cx="2071800" cy="1071360"/>
          </a:xfrm>
          <a:prstGeom prst="wedgeRoundRectCallout">
            <a:avLst>
              <a:gd name="adj1" fmla="val -74726"/>
              <a:gd name="adj2" fmla="val 15791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brat nekvantifikované enviromentální kritér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bdélník 8"/>
          <p:cNvSpPr/>
          <p:nvPr/>
        </p:nvSpPr>
        <p:spPr>
          <a:xfrm>
            <a:off x="7143840" y="2928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BCB27-3909-410B-AB4C-6C8D08864257}" type="slidenum">
              <a:t>22</a:t>
            </a:fld>
          </a:p>
        </p:txBody>
      </p:sp>
    </p:spTree>
  </p:cSld>
  <p:transition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Financování 5.2.b)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233" name="Vývojový diagram: postup 7"/>
          <p:cNvSpPr/>
          <p:nvPr/>
        </p:nvSpPr>
        <p:spPr>
          <a:xfrm>
            <a:off x="1571760" y="2000160"/>
            <a:ext cx="5929200" cy="1071720"/>
          </a:xfrm>
          <a:prstGeom prst="flowChartProcess">
            <a:avLst/>
          </a:prstGeom>
          <a:solidFill>
            <a:srgbClr val="ffff97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kové uznatelné výdaje –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ývojový diagram: postup 8"/>
          <p:cNvSpPr/>
          <p:nvPr/>
        </p:nvSpPr>
        <p:spPr>
          <a:xfrm>
            <a:off x="1571760" y="3071880"/>
            <a:ext cx="3143160" cy="107136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tace ERDF + SR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% - 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Vývojový diagram: postup 9"/>
          <p:cNvSpPr/>
          <p:nvPr/>
        </p:nvSpPr>
        <p:spPr>
          <a:xfrm>
            <a:off x="4714920" y="3071880"/>
            <a:ext cx="2786040" cy="1071360"/>
          </a:xfrm>
          <a:prstGeom prst="flowChartProcess">
            <a:avLst/>
          </a:prstGeom>
          <a:solidFill>
            <a:srgbClr val="d9d9d9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luúčast majitelů domů 60%-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ovéPole 10"/>
          <p:cNvSpPr/>
          <p:nvPr/>
        </p:nvSpPr>
        <p:spPr>
          <a:xfrm>
            <a:off x="642960" y="5929200"/>
            <a:ext cx="74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V případě JZ dotace 36% (30%)  - spoluúčast 44% - 70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bdélník 12"/>
          <p:cNvSpPr/>
          <p:nvPr/>
        </p:nvSpPr>
        <p:spPr>
          <a:xfrm>
            <a:off x="571680" y="785880"/>
            <a:ext cx="764352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nancování 5.2.b) Regenerace bytových do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Vývojový diagram: postup 13"/>
          <p:cNvSpPr/>
          <p:nvPr/>
        </p:nvSpPr>
        <p:spPr>
          <a:xfrm>
            <a:off x="1571760" y="4500720"/>
            <a:ext cx="2214360" cy="100008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tace ERDF 8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Vývojový diagram: postup 14"/>
          <p:cNvSpPr/>
          <p:nvPr/>
        </p:nvSpPr>
        <p:spPr>
          <a:xfrm>
            <a:off x="3714840" y="4500720"/>
            <a:ext cx="985680" cy="10000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Vývojový diagram: postup 15"/>
          <p:cNvSpPr/>
          <p:nvPr/>
        </p:nvSpPr>
        <p:spPr>
          <a:xfrm>
            <a:off x="3786120" y="4500720"/>
            <a:ext cx="928800" cy="100008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ace SR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00ED0-F371-475E-8EF6-6E29107EC17E}" type="slidenum">
              <a:t>23</a:t>
            </a:fld>
          </a:p>
        </p:txBody>
      </p:sp>
    </p:spTree>
  </p:cSld>
  <p:transition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Zástupný symbol pro číslo snímku 1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F0BB-B1E8-4C44-97EA-862DAD3CF4F8}" type="slidenum">
              <a:rPr b="0" lang="en-US" sz="1400" spc="-1" strike="noStrike">
                <a:solidFill>
                  <a:srgbClr val="ffe46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bdélník 9"/>
          <p:cNvSpPr/>
          <p:nvPr/>
        </p:nvSpPr>
        <p:spPr>
          <a:xfrm>
            <a:off x="1571760" y="785880"/>
            <a:ext cx="60004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nancování 5.2a) Revitalizace veřejného prostranstv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Vývojový diagram: postup 10"/>
          <p:cNvSpPr/>
          <p:nvPr/>
        </p:nvSpPr>
        <p:spPr>
          <a:xfrm>
            <a:off x="1928880" y="2143080"/>
            <a:ext cx="5572080" cy="1214640"/>
          </a:xfrm>
          <a:prstGeom prst="flowChartProcess">
            <a:avLst/>
          </a:prstGeom>
          <a:solidFill>
            <a:srgbClr val="ffff97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kové způsobilé výda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Vývojový diagram: postup 11"/>
          <p:cNvSpPr/>
          <p:nvPr/>
        </p:nvSpPr>
        <p:spPr>
          <a:xfrm>
            <a:off x="1928880" y="3357720"/>
            <a:ext cx="4143240" cy="92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ace ERDF 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Vývojový diagram: postup 12"/>
          <p:cNvSpPr/>
          <p:nvPr/>
        </p:nvSpPr>
        <p:spPr>
          <a:xfrm>
            <a:off x="6072120" y="3357720"/>
            <a:ext cx="1428840" cy="928440"/>
          </a:xfrm>
          <a:prstGeom prst="flowChartProcess">
            <a:avLst/>
          </a:prstGeom>
          <a:solidFill>
            <a:srgbClr val="d9d9d9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oluúčast obce 1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Financování 5.2a)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2633-7162-4479-9A3C-EC1DC771EA6F}" type="slidenum">
              <a:t>24</a:t>
            </a:fld>
          </a:p>
        </p:txBody>
      </p:sp>
    </p:spTree>
  </p:cSld>
  <p:transition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57160" y="114300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okyny k vyplnění elektronické žádosti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ojektové  žádosti BENEFIT7</a:t>
            </a:r>
            <a:endParaRPr b="0" lang="en-US" sz="28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28800" y="2785680"/>
            <a:ext cx="750096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Lucida Sans Unicode"/>
              </a:rPr>
              <a:t>Pro snadnější vyplňování doporučujeme nejdříve finanční potřeby a zdroje rozepsat mimo žádost v BENEFIT7  např. v excelové  tabulce.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928800" y="-285840"/>
            <a:ext cx="791208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Doporu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C36D3-C8CB-4E59-A439-633FC606603F}" type="slidenum">
              <a:t>25</a:t>
            </a:fld>
          </a:p>
        </p:txBody>
      </p:sp>
    </p:spTree>
  </p:cSld>
  <p:transition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Příklad 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285920" y="928800"/>
            <a:ext cx="753912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Lucida Sans Unicode"/>
              </a:rPr>
              <a:t>Příklad pro žádost do 5.2.b) – míra podpory 40%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Lucida Sans Unicode"/>
              </a:rPr>
              <a:t>Celkové investiční náklady  1 200 000,--Kč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Lucida Sans Unicode"/>
              </a:rPr>
              <a:t>Celkové způsobilé výdaje    1 000 000,--Kč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304920" y="2492280"/>
            <a:ext cx="8532720" cy="340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B8FDA-5DDC-4FCE-BC90-02BF81876FDB}" type="slidenum">
              <a:t>26</a:t>
            </a:fld>
          </a:p>
        </p:txBody>
      </p:sp>
    </p:spTree>
  </p:cSld>
  <p:transition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Potřeby 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264" name="Picture 8" descr=""/>
          <p:cNvPicPr/>
          <p:nvPr/>
        </p:nvPicPr>
        <p:blipFill>
          <a:blip r:embed="rId2"/>
          <a:stretch/>
        </p:blipFill>
        <p:spPr>
          <a:xfrm>
            <a:off x="2428920" y="1000080"/>
            <a:ext cx="5753160" cy="4062600"/>
          </a:xfrm>
          <a:prstGeom prst="rect">
            <a:avLst/>
          </a:prstGeom>
          <a:ln w="0">
            <a:noFill/>
          </a:ln>
        </p:spPr>
      </p:pic>
      <p:sp>
        <p:nvSpPr>
          <p:cNvPr id="265" name="Popisek se šipkou doprava 7"/>
          <p:cNvSpPr/>
          <p:nvPr/>
        </p:nvSpPr>
        <p:spPr>
          <a:xfrm>
            <a:off x="857160" y="2000160"/>
            <a:ext cx="1643040" cy="2286000"/>
          </a:xfrm>
          <a:prstGeom prst="rightArrowCallout">
            <a:avLst>
              <a:gd name="adj1" fmla="val 25007"/>
              <a:gd name="adj2" fmla="val 24999"/>
              <a:gd name="adj3" fmla="val 25000"/>
              <a:gd name="adj4" fmla="val 64977"/>
            </a:avLst>
          </a:prstGeom>
          <a:solidFill>
            <a:srgbClr val="d9d9d9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ávod na výběr z číselníků je zpracován v Pokyn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71062-DA20-42AD-AA7B-0F0F8D8CF16C}" type="slidenum">
              <a:t>27</a:t>
            </a:fld>
          </a:p>
        </p:txBody>
      </p:sp>
    </p:spTree>
  </p:cSld>
  <p:transition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" descr=""/>
          <p:cNvPicPr/>
          <p:nvPr/>
        </p:nvPicPr>
        <p:blipFill>
          <a:blip r:embed="rId2"/>
          <a:stretch/>
        </p:blipFill>
        <p:spPr>
          <a:xfrm>
            <a:off x="1643040" y="1108080"/>
            <a:ext cx="6929640" cy="4925880"/>
          </a:xfrm>
          <a:prstGeom prst="rect">
            <a:avLst/>
          </a:prstGeom>
          <a:ln w="0">
            <a:noFill/>
          </a:ln>
        </p:spPr>
      </p:pic>
      <p:sp>
        <p:nvSpPr>
          <p:cNvPr id="267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Potřeby 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271" name="TextovéPole 7"/>
          <p:cNvSpPr/>
          <p:nvPr/>
        </p:nvSpPr>
        <p:spPr>
          <a:xfrm>
            <a:off x="1285920" y="714240"/>
            <a:ext cx="72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Částky zaokrouhlené na tisíce !!!!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Zaoblený obdélníkový popisek 7"/>
          <p:cNvSpPr/>
          <p:nvPr/>
        </p:nvSpPr>
        <p:spPr>
          <a:xfrm>
            <a:off x="500040" y="3929040"/>
            <a:ext cx="928800" cy="785880"/>
          </a:xfrm>
          <a:prstGeom prst="wedgeRoundRectCallout">
            <a:avLst>
              <a:gd name="adj1" fmla="val 171944"/>
              <a:gd name="adj2" fmla="val 69847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ybrat z  číselník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Zaoblený obdélníkový popisek 8"/>
          <p:cNvSpPr/>
          <p:nvPr/>
        </p:nvSpPr>
        <p:spPr>
          <a:xfrm>
            <a:off x="6072120" y="5286240"/>
            <a:ext cx="1357560" cy="571680"/>
          </a:xfrm>
          <a:prstGeom prst="wedgeRoundRectCallout">
            <a:avLst>
              <a:gd name="adj1" fmla="val -85912"/>
              <a:gd name="adj2" fmla="val 17027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oplnit finanční potřeby dle jednotlivých l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9935B-B2F6-4BD6-B524-0A296DF16ED8}" type="slidenum">
              <a:t>28</a:t>
            </a:fld>
          </a:p>
        </p:txBody>
      </p:sp>
    </p:spTree>
  </p:cSld>
  <p:transition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Potřeby 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278" name="TextovéPole 7"/>
          <p:cNvSpPr/>
          <p:nvPr/>
        </p:nvSpPr>
        <p:spPr>
          <a:xfrm>
            <a:off x="1357200" y="1000080"/>
            <a:ext cx="72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ód řádku  :  5.2.b) – pouze investiční výdaje   60x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2"/>
          <a:stretch/>
        </p:blipFill>
        <p:spPr>
          <a:xfrm>
            <a:off x="1714680" y="2357280"/>
            <a:ext cx="6786360" cy="3071880"/>
          </a:xfrm>
          <a:prstGeom prst="rect">
            <a:avLst/>
          </a:prstGeom>
          <a:ln w="0">
            <a:noFill/>
          </a:ln>
        </p:spPr>
      </p:pic>
      <p:sp>
        <p:nvSpPr>
          <p:cNvPr id="280" name="Zaoblený obdélníkový popisek 7"/>
          <p:cNvSpPr/>
          <p:nvPr/>
        </p:nvSpPr>
        <p:spPr>
          <a:xfrm>
            <a:off x="6072120" y="1714680"/>
            <a:ext cx="1428840" cy="714240"/>
          </a:xfrm>
          <a:prstGeom prst="wedgeRoundRectCallout">
            <a:avLst>
              <a:gd name="adj1" fmla="val 67421"/>
              <a:gd name="adj2" fmla="val 109273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užití filtru pro hledání investičních výdajů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79A96-BD96-48F4-9288-DA6A7899F16D}" type="slidenum">
              <a:t>29</a:t>
            </a:fld>
          </a:p>
        </p:txBody>
      </p:sp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BENEFIT7 nová žádost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87" name="TextovéPole 7"/>
          <p:cNvSpPr/>
          <p:nvPr/>
        </p:nvSpPr>
        <p:spPr>
          <a:xfrm>
            <a:off x="1714680" y="2214720"/>
            <a:ext cx="6929280" cy="3080160"/>
          </a:xfrm>
          <a:prstGeom prst="rect">
            <a:avLst/>
          </a:prstGeom>
          <a:solidFill>
            <a:srgbClr val="d9d9d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 vyplňování postupujeme d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řílohy č. 5 Pokyny pro vyplnění elektronické projektové žádosti BENEFIT7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ále jen Poky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říručky pro žadatele a příjem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veřejněné na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trukturalni-fondy.c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C4471-F688-4D58-86C1-DA1B03CFBA8E}" type="slidenum">
              <a:t>3</a:t>
            </a:fld>
          </a:p>
        </p:txBody>
      </p:sp>
    </p:spTree>
  </p:cSld>
  <p:transition>
    <p:cover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Přehled financování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285" name="TextovéPole 8"/>
          <p:cNvSpPr/>
          <p:nvPr/>
        </p:nvSpPr>
        <p:spPr>
          <a:xfrm>
            <a:off x="1500120" y="785880"/>
            <a:ext cx="6929640" cy="916920"/>
          </a:xfrm>
          <a:prstGeom prst="rect">
            <a:avLst/>
          </a:prstGeom>
          <a:solidFill>
            <a:srgbClr val="d9d9d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e se doplňují ručně – ze záložky „Potřeb“ se automaticky data nepřenášej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plňují se skutečné částky, bez zaokrohlení !!!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9" descr=""/>
          <p:cNvPicPr/>
          <p:nvPr/>
        </p:nvPicPr>
        <p:blipFill>
          <a:blip r:embed="rId2"/>
          <a:stretch/>
        </p:blipFill>
        <p:spPr>
          <a:xfrm>
            <a:off x="2357280" y="1785960"/>
            <a:ext cx="5524560" cy="4429080"/>
          </a:xfrm>
          <a:prstGeom prst="rect">
            <a:avLst/>
          </a:prstGeom>
          <a:ln w="0">
            <a:noFill/>
          </a:ln>
        </p:spPr>
      </p:pic>
      <p:sp>
        <p:nvSpPr>
          <p:cNvPr id="287" name="Zaoblený obdélníkový popisek 7"/>
          <p:cNvSpPr/>
          <p:nvPr/>
        </p:nvSpPr>
        <p:spPr>
          <a:xfrm>
            <a:off x="642960" y="4714920"/>
            <a:ext cx="1928880" cy="714240"/>
          </a:xfrm>
          <a:prstGeom prst="wedgeRoundRectCallout">
            <a:avLst>
              <a:gd name="adj1" fmla="val 144342"/>
              <a:gd name="adj2" fmla="val 108597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lkové  vý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Zaoblený obdélníkový popisek 9"/>
          <p:cNvSpPr/>
          <p:nvPr/>
        </p:nvSpPr>
        <p:spPr>
          <a:xfrm>
            <a:off x="428760" y="3214800"/>
            <a:ext cx="1857240" cy="928440"/>
          </a:xfrm>
          <a:prstGeom prst="wedgeRoundRectCallout">
            <a:avLst>
              <a:gd name="adj1" fmla="val 105416"/>
              <a:gd name="adj2" fmla="val 53560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vinná spoluúčast žadatele – vlastníka bytového domu tj. i obe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Zaoblený obdélníkový popisek 10"/>
          <p:cNvSpPr/>
          <p:nvPr/>
        </p:nvSpPr>
        <p:spPr>
          <a:xfrm>
            <a:off x="7929720" y="4429080"/>
            <a:ext cx="785520" cy="857160"/>
          </a:xfrm>
          <a:prstGeom prst="wedgeRoundRectCallout">
            <a:avLst>
              <a:gd name="adj1" fmla="val -102898"/>
              <a:gd name="adj2" fmla="val 115273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liknout po vyplně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aoblený obdélníkový popisek 11"/>
          <p:cNvSpPr/>
          <p:nvPr/>
        </p:nvSpPr>
        <p:spPr>
          <a:xfrm>
            <a:off x="500040" y="2000160"/>
            <a:ext cx="1857240" cy="928800"/>
          </a:xfrm>
          <a:prstGeom prst="wedgeRoundRectCallout">
            <a:avLst>
              <a:gd name="adj1" fmla="val 88833"/>
              <a:gd name="adj2" fmla="val 138546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vinná spoluúčast obce v aktivitě revitalizace veřejného prostranstv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933F7-2461-418F-9205-36C147C50CBD}" type="slidenum">
              <a:t>30</a:t>
            </a:fld>
          </a:p>
        </p:txBody>
      </p:sp>
    </p:spTree>
  </p:cSld>
  <p:transition>
    <p:cover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0" descr=""/>
          <p:cNvPicPr/>
          <p:nvPr/>
        </p:nvPicPr>
        <p:blipFill>
          <a:blip r:embed="rId2"/>
          <a:stretch/>
        </p:blipFill>
        <p:spPr>
          <a:xfrm>
            <a:off x="2500200" y="1285920"/>
            <a:ext cx="5500800" cy="4800600"/>
          </a:xfrm>
          <a:prstGeom prst="rect">
            <a:avLst/>
          </a:prstGeom>
          <a:ln w="0">
            <a:noFill/>
          </a:ln>
        </p:spPr>
      </p:pic>
      <p:sp>
        <p:nvSpPr>
          <p:cNvPr id="292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Přehled financování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296" name="TextovéPole 13"/>
          <p:cNvSpPr/>
          <p:nvPr/>
        </p:nvSpPr>
        <p:spPr>
          <a:xfrm>
            <a:off x="1357200" y="857160"/>
            <a:ext cx="6715080" cy="337320"/>
          </a:xfrm>
          <a:prstGeom prst="rect">
            <a:avLst/>
          </a:prstGeom>
          <a:solidFill>
            <a:srgbClr val="d9d9d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zpad financí – stejný u obcí i ostatních žadatel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Zaoblený obdélníkový popisek 9"/>
          <p:cNvSpPr/>
          <p:nvPr/>
        </p:nvSpPr>
        <p:spPr>
          <a:xfrm>
            <a:off x="714240" y="5000760"/>
            <a:ext cx="1500480" cy="857160"/>
          </a:xfrm>
          <a:prstGeom prst="wedgeRoundRectCallout">
            <a:avLst>
              <a:gd name="adj1" fmla="val 111208"/>
              <a:gd name="adj2" fmla="val -374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 případě správného rozpadu financí - výše dota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81426-C6AC-40B5-9ADF-7C0AC028BDCC}" type="slidenum">
              <a:t>31</a:t>
            </a:fld>
          </a:p>
        </p:txBody>
      </p:sp>
    </p:spTree>
  </p:cSld>
  <p:transition>
    <p:cover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droje 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2"/>
          <a:stretch/>
        </p:blipFill>
        <p:spPr>
          <a:xfrm>
            <a:off x="3714840" y="714240"/>
            <a:ext cx="4071960" cy="39434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"/>
          <p:cNvPicPr/>
          <p:nvPr/>
        </p:nvPicPr>
        <p:blipFill>
          <a:blip r:embed="rId3"/>
          <a:stretch/>
        </p:blipFill>
        <p:spPr>
          <a:xfrm>
            <a:off x="2714760" y="4500720"/>
            <a:ext cx="5762520" cy="1523880"/>
          </a:xfrm>
          <a:prstGeom prst="rect">
            <a:avLst/>
          </a:prstGeom>
          <a:ln w="0">
            <a:noFill/>
          </a:ln>
        </p:spPr>
      </p:pic>
      <p:sp>
        <p:nvSpPr>
          <p:cNvPr id="304" name="Zahnutá šipka doprava 9"/>
          <p:cNvSpPr/>
          <p:nvPr/>
        </p:nvSpPr>
        <p:spPr>
          <a:xfrm rot="954600">
            <a:off x="2984400" y="3049560"/>
            <a:ext cx="579600" cy="1533600"/>
          </a:xfrm>
          <a:custGeom>
            <a:avLst/>
            <a:gdLst>
              <a:gd name="textAreaLeft" fmla="*/ 77400 w 579600"/>
              <a:gd name="textAreaRight" fmla="*/ 502200 w 579600"/>
              <a:gd name="textAreaTop" fmla="*/ 329040 h 1533600"/>
              <a:gd name="textAreaBottom" fmla="*/ 1132200 h 1533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72" stAng="-5400000" swAng="-5400000"/>
                <a:lnTo>
                  <a:pt x="0" y="11310"/>
                </a:lnTo>
                <a:arcTo wR="21600" hR="9272" stAng="10800000" swAng="-3538307"/>
                <a:lnTo>
                  <a:pt x="16200" y="21306"/>
                </a:lnTo>
                <a:lnTo>
                  <a:pt x="21600" y="19562"/>
                </a:lnTo>
                <a:lnTo>
                  <a:pt x="16200" y="17230"/>
                </a:lnTo>
                <a:lnTo>
                  <a:pt x="16200" y="18249"/>
                </a:lnTo>
                <a:arcTo wR="21600" hR="9272" stAng="7261693" swAng="3375262"/>
                <a:lnTo>
                  <a:pt x="131" y="10291"/>
                </a:lnTo>
                <a:arcTo wR="21600" hR="9272" stAng="-10636955" swAng="5236955"/>
                <a:close/>
              </a:path>
              <a:path fill="darkenLess" w="21600" h="21600">
                <a:moveTo>
                  <a:pt x="21600" y="0"/>
                </a:moveTo>
                <a:arcTo wR="21600" hR="9272" stAng="-5400000" swAng="-5400000"/>
                <a:lnTo>
                  <a:pt x="0" y="9272"/>
                </a:lnTo>
                <a:arcTo wR="21600" hR="9272" stAng="10800000" swAng="-163045"/>
                <a:lnTo>
                  <a:pt x="131" y="10291"/>
                </a:lnTo>
                <a:arcTo wR="21600" hR="9272" stAng="-10636955" swAng="5236955"/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ovéPole 10"/>
          <p:cNvSpPr/>
          <p:nvPr/>
        </p:nvSpPr>
        <p:spPr>
          <a:xfrm>
            <a:off x="1214280" y="1857240"/>
            <a:ext cx="1714680" cy="824040"/>
          </a:xfrm>
          <a:prstGeom prst="rect">
            <a:avLst/>
          </a:prstGeom>
          <a:solidFill>
            <a:srgbClr val="d9d9d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ódy řádků, které se použijí jsou v Pokyne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A4A3E-C892-4701-B4F1-E9E691CC9BB3}" type="slidenum">
              <a:t>32</a:t>
            </a:fld>
          </a:p>
        </p:txBody>
      </p:sp>
    </p:spTree>
  </p:cSld>
  <p:transition>
    <p:cover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droje 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310" name="TextovéPole 13"/>
          <p:cNvSpPr/>
          <p:nvPr/>
        </p:nvSpPr>
        <p:spPr>
          <a:xfrm>
            <a:off x="1071720" y="1500120"/>
            <a:ext cx="1285560" cy="1006560"/>
          </a:xfrm>
          <a:prstGeom prst="rect">
            <a:avLst/>
          </a:prstGeom>
          <a:solidFill>
            <a:srgbClr val="d9d9d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ři vyplňování záložky „Zdroje“  použijeme pomocnou tabulk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786040" y="785880"/>
          <a:ext cx="6070680" cy="2325600"/>
        </p:xfrm>
        <a:graphic>
          <a:graphicData uri="http://schemas.openxmlformats.org/drawingml/2006/table">
            <a:tbl>
              <a:tblPr/>
              <a:tblGrid>
                <a:gridCol w="2500200"/>
                <a:gridCol w="863640"/>
                <a:gridCol w="863640"/>
                <a:gridCol w="938160"/>
                <a:gridCol w="905040"/>
              </a:tblGrid>
              <a:tr h="380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k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kové investiční výdaj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způsobilé výda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kové způsobilé výdaje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ce  40%    (ze způsobilých výdajů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inná spoluúčast  (60% ze způsobilých výdajů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zpad dotac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DF 85%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R      15%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trolní souče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2" name="Picture 106" descr=""/>
          <p:cNvPicPr/>
          <p:nvPr/>
        </p:nvPicPr>
        <p:blipFill>
          <a:blip r:embed="rId2"/>
          <a:stretch/>
        </p:blipFill>
        <p:spPr>
          <a:xfrm>
            <a:off x="1285920" y="3286080"/>
            <a:ext cx="5753160" cy="1371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7" descr=""/>
          <p:cNvPicPr/>
          <p:nvPr/>
        </p:nvPicPr>
        <p:blipFill>
          <a:blip r:embed="rId3"/>
          <a:stretch/>
        </p:blipFill>
        <p:spPr>
          <a:xfrm>
            <a:off x="1285920" y="4714920"/>
            <a:ext cx="3286080" cy="144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BA6E3-0AC0-4098-BA47-D7D89E3E264B}" type="slidenum">
              <a:t>33</a:t>
            </a:fld>
          </a:p>
        </p:txBody>
      </p:sp>
    </p:spTree>
  </p:cSld>
  <p:transition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Etapy 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318" name="Picture 3" descr=""/>
          <p:cNvPicPr/>
          <p:nvPr/>
        </p:nvPicPr>
        <p:blipFill>
          <a:blip r:embed="rId2"/>
          <a:stretch/>
        </p:blipFill>
        <p:spPr>
          <a:xfrm>
            <a:off x="2071800" y="714240"/>
            <a:ext cx="4929120" cy="5349960"/>
          </a:xfrm>
          <a:prstGeom prst="rect">
            <a:avLst/>
          </a:prstGeom>
          <a:ln w="0">
            <a:noFill/>
          </a:ln>
        </p:spPr>
      </p:pic>
      <p:sp>
        <p:nvSpPr>
          <p:cNvPr id="319" name="Zaoblený obdélníkový popisek 6"/>
          <p:cNvSpPr/>
          <p:nvPr/>
        </p:nvSpPr>
        <p:spPr>
          <a:xfrm>
            <a:off x="7286760" y="2000160"/>
            <a:ext cx="1357200" cy="928800"/>
          </a:xfrm>
          <a:prstGeom prst="wedgeRoundRectCallout">
            <a:avLst>
              <a:gd name="adj1" fmla="val -220810"/>
              <a:gd name="adj2" fmla="val -75782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tapy na sebe musí navazovat !!!!!!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Zaoblený obdélníkový popisek 7"/>
          <p:cNvSpPr/>
          <p:nvPr/>
        </p:nvSpPr>
        <p:spPr>
          <a:xfrm>
            <a:off x="642960" y="5357880"/>
            <a:ext cx="1428840" cy="785880"/>
          </a:xfrm>
          <a:prstGeom prst="wedgeRoundRectCallout">
            <a:avLst>
              <a:gd name="adj1" fmla="val 70115"/>
              <a:gd name="adj2" fmla="val -66462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zpad financí se provede po vyplnění všech eta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4F2BA-3F90-4816-8E49-4F6C12E9C82E}" type="slidenum">
              <a:t>34</a:t>
            </a:fld>
          </a:p>
        </p:txBody>
      </p:sp>
    </p:spTree>
  </p:cSld>
  <p:transition>
    <p:cover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Finanční plán 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2"/>
          <a:stretch/>
        </p:blipFill>
        <p:spPr>
          <a:xfrm>
            <a:off x="2000160" y="1428840"/>
            <a:ext cx="5981760" cy="3724200"/>
          </a:xfrm>
          <a:prstGeom prst="rect">
            <a:avLst/>
          </a:prstGeom>
          <a:ln w="0">
            <a:noFill/>
          </a:ln>
        </p:spPr>
      </p:pic>
      <p:sp>
        <p:nvSpPr>
          <p:cNvPr id="326" name="Zaoblený obdélníkový popisek 7"/>
          <p:cNvSpPr/>
          <p:nvPr/>
        </p:nvSpPr>
        <p:spPr>
          <a:xfrm>
            <a:off x="7000920" y="2000160"/>
            <a:ext cx="1500120" cy="898560"/>
          </a:xfrm>
          <a:prstGeom prst="wedgeRoundRectCallout">
            <a:avLst>
              <a:gd name="adj1" fmla="val -141685"/>
              <a:gd name="adj2" fmla="val 45361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oplní se automaticky po vyplnění záložky „Etapy“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E6964-2431-40DE-809D-8A97C42DB8D4}" type="slidenum">
              <a:t>35</a:t>
            </a:fld>
          </a:p>
        </p:txBody>
      </p:sp>
    </p:spTree>
  </p:cSld>
  <p:transition>
    <p:cover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Prioritní témata 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2286000" y="1000080"/>
            <a:ext cx="5762520" cy="4734000"/>
          </a:xfrm>
          <a:prstGeom prst="rect">
            <a:avLst/>
          </a:prstGeom>
          <a:ln w="0">
            <a:noFill/>
          </a:ln>
        </p:spPr>
      </p:pic>
      <p:sp>
        <p:nvSpPr>
          <p:cNvPr id="332" name="Zaoblený obdélníkový popisek 6"/>
          <p:cNvSpPr/>
          <p:nvPr/>
        </p:nvSpPr>
        <p:spPr>
          <a:xfrm>
            <a:off x="7572240" y="3500280"/>
            <a:ext cx="928800" cy="571680"/>
          </a:xfrm>
          <a:prstGeom prst="wedgeRoundRectCallout">
            <a:avLst>
              <a:gd name="adj1" fmla="val -102712"/>
              <a:gd name="adj2" fmla="val -70791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ýběr aktivity z číselník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Zaoblený obdélníkový popisek 7"/>
          <p:cNvSpPr/>
          <p:nvPr/>
        </p:nvSpPr>
        <p:spPr>
          <a:xfrm>
            <a:off x="7500960" y="4572000"/>
            <a:ext cx="1500120" cy="928800"/>
          </a:xfrm>
          <a:prstGeom prst="wedgeRoundRectCallout">
            <a:avLst>
              <a:gd name="adj1" fmla="val -129495"/>
              <a:gd name="adj2" fmla="val -132347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 vybrání aktivity kliknout – částky se doplní automatick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14D56-E22D-4B31-838C-EDEFAEA39833}" type="slidenum">
              <a:t>36</a:t>
            </a:fld>
          </a:p>
        </p:txBody>
      </p:sp>
    </p:spTree>
  </p:cSld>
  <p:transition>
    <p:cover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Výběrová řízení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6696360" cy="53280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7575120" y="3141360"/>
            <a:ext cx="1100880" cy="648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2060"/>
            </a:solidFill>
            <a:round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Vyplnit pro každé VŘ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37" name="Zaoblený obdélníkový popisek 7"/>
          <p:cNvSpPr/>
          <p:nvPr/>
        </p:nvSpPr>
        <p:spPr>
          <a:xfrm>
            <a:off x="7236000" y="4572000"/>
            <a:ext cx="1765080" cy="1449360"/>
          </a:xfrm>
          <a:prstGeom prst="wedgeRoundRectCallout">
            <a:avLst>
              <a:gd name="adj1" fmla="val -96851"/>
              <a:gd name="adj2" fmla="val -58763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ZOR zda podle zákona  nebo Závazných postupů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1698B-D976-4D0A-8231-0BB8A42006C1}" type="slidenum">
              <a:t>37</a:t>
            </a:fld>
          </a:p>
        </p:txBody>
      </p:sp>
    </p:spTree>
  </p:cSld>
  <p:transition>
    <p:cover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00080" y="-21420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Horizontální témata 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2"/>
          <a:stretch/>
        </p:blipFill>
        <p:spPr>
          <a:xfrm>
            <a:off x="3786120" y="1071720"/>
            <a:ext cx="3857760" cy="5040000"/>
          </a:xfrm>
          <a:prstGeom prst="rect">
            <a:avLst/>
          </a:prstGeom>
          <a:ln w="0">
            <a:noFill/>
          </a:ln>
        </p:spPr>
      </p:pic>
      <p:sp>
        <p:nvSpPr>
          <p:cNvPr id="343" name="Popisek se šipkou doprava 6"/>
          <p:cNvSpPr/>
          <p:nvPr/>
        </p:nvSpPr>
        <p:spPr>
          <a:xfrm>
            <a:off x="1857240" y="2786040"/>
            <a:ext cx="1285920" cy="1214640"/>
          </a:xfrm>
          <a:prstGeom prst="rightArrowCallout">
            <a:avLst>
              <a:gd name="adj1" fmla="val 25002"/>
              <a:gd name="adj2" fmla="val 25000"/>
              <a:gd name="adj3" fmla="val 24997"/>
              <a:gd name="adj4" fmla="val 64977"/>
            </a:avLst>
          </a:prstGeom>
          <a:solidFill>
            <a:srgbClr val="d9d9d9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yplnit dl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135AF-BFD0-4815-BEDF-5192EEC78693}" type="slidenum">
              <a:t>38</a:t>
            </a:fld>
          </a:p>
        </p:txBody>
      </p:sp>
    </p:spTree>
  </p:cSld>
  <p:transition>
    <p:cover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Publicita 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2571840" y="1000080"/>
            <a:ext cx="5753160" cy="3476520"/>
          </a:xfrm>
          <a:prstGeom prst="rect">
            <a:avLst/>
          </a:prstGeom>
          <a:ln w="0">
            <a:noFill/>
          </a:ln>
        </p:spPr>
      </p:pic>
      <p:sp>
        <p:nvSpPr>
          <p:cNvPr id="349" name="Zaoblený obdélníkový popisek 6"/>
          <p:cNvSpPr/>
          <p:nvPr/>
        </p:nvSpPr>
        <p:spPr>
          <a:xfrm>
            <a:off x="785880" y="2357280"/>
            <a:ext cx="1285920" cy="2071800"/>
          </a:xfrm>
          <a:prstGeom prst="wedgeRoundRectCallout">
            <a:avLst>
              <a:gd name="adj1" fmla="val 97435"/>
              <a:gd name="adj2" fmla="val 23574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Žadatel vybere z nabídky dle „Pravidel pro provádění informačních a propagačních opatření“ – příloha č. 3 Příručky pro žadatele a příjem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ovéPole 7"/>
          <p:cNvSpPr/>
          <p:nvPr/>
        </p:nvSpPr>
        <p:spPr>
          <a:xfrm>
            <a:off x="2071800" y="4857840"/>
            <a:ext cx="5929200" cy="733320"/>
          </a:xfrm>
          <a:prstGeom prst="rect">
            <a:avLst/>
          </a:prstGeom>
          <a:solidFill>
            <a:srgbClr val="d9d9d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kty na které dotace činí méně než 500 000 EUR označí hmotné výstupy symbolem EU a IOP a dále informací o finanční účasti EU, ERDF – text v Příloze č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9D00-F9FB-4F68-9E11-277604E003EE}" type="slidenum">
              <a:t>39</a:t>
            </a:fld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BENEFIT7 – nová žádost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2428920" y="928800"/>
            <a:ext cx="5753160" cy="5000400"/>
          </a:xfrm>
          <a:prstGeom prst="rect">
            <a:avLst/>
          </a:prstGeom>
          <a:ln w="0">
            <a:noFill/>
          </a:ln>
        </p:spPr>
      </p:pic>
      <p:sp>
        <p:nvSpPr>
          <p:cNvPr id="93" name="Šipka doprava 6"/>
          <p:cNvSpPr/>
          <p:nvPr/>
        </p:nvSpPr>
        <p:spPr>
          <a:xfrm flipV="1" rot="19824600">
            <a:off x="4349880" y="2551680"/>
            <a:ext cx="1125360" cy="17784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ovéPole 7"/>
          <p:cNvSpPr/>
          <p:nvPr/>
        </p:nvSpPr>
        <p:spPr>
          <a:xfrm>
            <a:off x="3071880" y="2857680"/>
            <a:ext cx="1357200" cy="520200"/>
          </a:xfrm>
          <a:prstGeom prst="rect">
            <a:avLst/>
          </a:prstGeom>
          <a:solidFill>
            <a:srgbClr val="ffe7b7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ložení žá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55507-2D84-4524-A384-E3CA43B39B59}" type="slidenum">
              <a:t>4</a:t>
            </a:fld>
          </a:p>
        </p:txBody>
      </p:sp>
    </p:spTree>
  </p:cSld>
  <p:transition>
    <p:cover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Čestné prohlášení 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2"/>
          <a:stretch/>
        </p:blipFill>
        <p:spPr>
          <a:xfrm>
            <a:off x="2500200" y="687240"/>
            <a:ext cx="5643720" cy="545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EF736-A03B-4F89-816B-DFC8675D0FAA}" type="slidenum">
              <a:t>40</a:t>
            </a:fld>
          </a:p>
        </p:txBody>
      </p:sp>
    </p:spTree>
  </p:cSld>
  <p:transition>
    <p:cover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 </a:t>
            </a: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Přílohy projektu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1857240" y="642960"/>
            <a:ext cx="4929480" cy="5573520"/>
          </a:xfrm>
          <a:prstGeom prst="rect">
            <a:avLst/>
          </a:prstGeom>
          <a:ln w="0">
            <a:noFill/>
          </a:ln>
        </p:spPr>
      </p:pic>
      <p:sp>
        <p:nvSpPr>
          <p:cNvPr id="361" name="Zaoblený obdélníkový popisek 6"/>
          <p:cNvSpPr/>
          <p:nvPr/>
        </p:nvSpPr>
        <p:spPr>
          <a:xfrm>
            <a:off x="6858000" y="4786200"/>
            <a:ext cx="1285920" cy="714600"/>
          </a:xfrm>
          <a:prstGeom prst="wedgeRoundRectCallout">
            <a:avLst>
              <a:gd name="adj1" fmla="val -306310"/>
              <a:gd name="adj2" fmla="val -41250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čet listů vyhotovení  – nepovinný údaj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AE85D-C319-488F-8E53-8AB9E9C0749C}" type="slidenum">
              <a:t>41</a:t>
            </a:fld>
          </a:p>
        </p:txBody>
      </p:sp>
    </p:spTree>
  </p:cSld>
  <p:transition>
    <p:cover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 </a:t>
            </a: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Kontrola žádosti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2"/>
          <a:stretch/>
        </p:blipFill>
        <p:spPr>
          <a:xfrm>
            <a:off x="1857240" y="928800"/>
            <a:ext cx="5762880" cy="26668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3"/>
          <a:stretch/>
        </p:blipFill>
        <p:spPr>
          <a:xfrm>
            <a:off x="4214880" y="3857760"/>
            <a:ext cx="3643200" cy="219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46451-57A7-48E6-B44B-E3F3EF686393}" type="slidenum">
              <a:t>42</a:t>
            </a:fld>
          </a:p>
        </p:txBody>
      </p:sp>
    </p:spTree>
  </p:cSld>
  <p:transition>
    <p:cover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 </a:t>
            </a: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Finalizace žádosti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785880" y="785880"/>
            <a:ext cx="5753160" cy="2609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3"/>
          <a:stretch/>
        </p:blipFill>
        <p:spPr>
          <a:xfrm>
            <a:off x="2857680" y="2928960"/>
            <a:ext cx="5752800" cy="3067200"/>
          </a:xfrm>
          <a:prstGeom prst="rect">
            <a:avLst/>
          </a:prstGeom>
          <a:ln w="0">
            <a:noFill/>
          </a:ln>
        </p:spPr>
      </p:pic>
      <p:sp>
        <p:nvSpPr>
          <p:cNvPr id="374" name="Zaoblený obdélníkový popisek 9"/>
          <p:cNvSpPr/>
          <p:nvPr/>
        </p:nvSpPr>
        <p:spPr>
          <a:xfrm>
            <a:off x="928800" y="4143240"/>
            <a:ext cx="1285920" cy="1143000"/>
          </a:xfrm>
          <a:prstGeom prst="wedgeRoundRectCallout">
            <a:avLst>
              <a:gd name="adj1" fmla="val 96685"/>
              <a:gd name="adj2" fmla="val -17217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Žádost tisknout až po finálním uložení žá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C1CA9-2E89-44F9-B897-E80ED6DF5A3F}" type="slidenum">
              <a:t>43</a:t>
            </a:fld>
          </a:p>
        </p:txBody>
      </p:sp>
    </p:spTree>
  </p:cSld>
  <p:transition>
    <p:cover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32000" y="1125000"/>
            <a:ext cx="648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Lucida Sans Unicode"/>
              </a:rPr>
              <a:t>Děkuji za pozornost</a:t>
            </a: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3716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gr. Miloš Jírů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Sans Unicode"/>
                <a:hlinkClick r:id="rId2"/>
              </a:rPr>
              <a:t>jiru@crr.cz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 Unicode"/>
              </a:rPr>
              <a:t>, tel. 221 596 557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BENEFIT7 nová žádost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2357280" y="1500120"/>
            <a:ext cx="5753160" cy="3762360"/>
          </a:xfrm>
          <a:prstGeom prst="rect">
            <a:avLst/>
          </a:prstGeom>
          <a:ln w="0">
            <a:noFill/>
          </a:ln>
        </p:spPr>
      </p:pic>
      <p:sp>
        <p:nvSpPr>
          <p:cNvPr id="100" name="Šipka doprava 27"/>
          <p:cNvSpPr/>
          <p:nvPr/>
        </p:nvSpPr>
        <p:spPr>
          <a:xfrm>
            <a:off x="3643200" y="3929040"/>
            <a:ext cx="357480" cy="1429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B41B-AD1A-4E27-B2AB-4D040294B9EB}" type="slidenum">
              <a:t>5</a:t>
            </a:fld>
          </a:p>
        </p:txBody>
      </p:sp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Identifikace žádosti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2"/>
          <a:stretch/>
        </p:blipFill>
        <p:spPr>
          <a:xfrm>
            <a:off x="2071800" y="857160"/>
            <a:ext cx="5429160" cy="5261040"/>
          </a:xfrm>
          <a:prstGeom prst="rect">
            <a:avLst/>
          </a:prstGeom>
          <a:ln w="0">
            <a:noFill/>
          </a:ln>
        </p:spPr>
      </p:pic>
      <p:sp>
        <p:nvSpPr>
          <p:cNvPr id="106" name="Zaoblený obdélníkový popisek 6"/>
          <p:cNvSpPr/>
          <p:nvPr/>
        </p:nvSpPr>
        <p:spPr>
          <a:xfrm>
            <a:off x="4500720" y="4643280"/>
            <a:ext cx="2214360" cy="785880"/>
          </a:xfrm>
          <a:prstGeom prst="wedgeRoundRectCallout">
            <a:avLst>
              <a:gd name="adj1" fmla="val -111842"/>
              <a:gd name="adj2" fmla="val 3004"/>
              <a:gd name="adj3" fmla="val 16667"/>
            </a:avLst>
          </a:prstGeom>
          <a:solidFill>
            <a:srgbClr val="ffe7b7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áložky se zpřístupní po vyplnění „Přehledu financování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aoblený obdélníkový popisek 7"/>
          <p:cNvSpPr/>
          <p:nvPr/>
        </p:nvSpPr>
        <p:spPr>
          <a:xfrm>
            <a:off x="6715080" y="2786040"/>
            <a:ext cx="1928880" cy="1000080"/>
          </a:xfrm>
          <a:prstGeom prst="wedgeRoundRectCallout">
            <a:avLst>
              <a:gd name="adj1" fmla="val -107768"/>
              <a:gd name="adj2" fmla="val 100995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ždy a vše ukládat !!!!!!!!!!!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opisek se šipkou doprava 9" descr=""/>
          <p:cNvPicPr/>
          <p:nvPr/>
        </p:nvPicPr>
        <p:blipFill>
          <a:blip r:embed="rId3"/>
          <a:stretch/>
        </p:blipFill>
        <p:spPr>
          <a:xfrm>
            <a:off x="1127160" y="1847880"/>
            <a:ext cx="74448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B9E8-753A-467F-8874-9AB322742C0D}" type="slidenum">
              <a:t>6</a:t>
            </a:fld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Identifikace žádosti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2286000" y="857160"/>
            <a:ext cx="5457960" cy="5058000"/>
          </a:xfrm>
          <a:prstGeom prst="rect">
            <a:avLst/>
          </a:prstGeom>
          <a:ln w="0">
            <a:noFill/>
          </a:ln>
        </p:spPr>
      </p:pic>
      <p:sp>
        <p:nvSpPr>
          <p:cNvPr id="114" name="Zaoblený obdélníkový popisek 6"/>
          <p:cNvSpPr/>
          <p:nvPr/>
        </p:nvSpPr>
        <p:spPr>
          <a:xfrm>
            <a:off x="6000840" y="3143160"/>
            <a:ext cx="2714400" cy="17146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aoblený obdélníkový popisek 7"/>
          <p:cNvSpPr/>
          <p:nvPr/>
        </p:nvSpPr>
        <p:spPr>
          <a:xfrm>
            <a:off x="6572160" y="2928960"/>
            <a:ext cx="2071800" cy="1143000"/>
          </a:xfrm>
          <a:prstGeom prst="wedgeRoundRectCallout">
            <a:avLst>
              <a:gd name="adj1" fmla="val -71291"/>
              <a:gd name="adj2" fmla="val -135560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Žadatel je povinen vyplnit každé žluté p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515E2-5065-4F5B-A371-4B79793B0D38}" type="slidenum">
              <a:t>7</a:t>
            </a:fld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Projekt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1500120" y="928800"/>
            <a:ext cx="7174080" cy="4619520"/>
          </a:xfrm>
          <a:prstGeom prst="rect">
            <a:avLst/>
          </a:prstGeom>
          <a:ln w="0">
            <a:noFill/>
          </a:ln>
        </p:spPr>
      </p:pic>
      <p:sp>
        <p:nvSpPr>
          <p:cNvPr id="121" name="Zaoblený obdélníkový popisek 6"/>
          <p:cNvSpPr/>
          <p:nvPr/>
        </p:nvSpPr>
        <p:spPr>
          <a:xfrm>
            <a:off x="5000760" y="785880"/>
            <a:ext cx="1000080" cy="857160"/>
          </a:xfrm>
          <a:prstGeom prst="wedgeRoundRectCallout">
            <a:avLst>
              <a:gd name="adj1" fmla="val -273"/>
              <a:gd name="adj2" fmla="val 99777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bídka z číselník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2A784-A16F-4DA2-8170-84568897B9A2}" type="slidenum">
              <a:t>8</a:t>
            </a:fld>
          </a:p>
        </p:txBody>
      </p:sp>
    </p:spTree>
  </p:cSld>
  <p:transition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Projekt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1714680" y="928800"/>
            <a:ext cx="6476760" cy="5033880"/>
          </a:xfrm>
          <a:prstGeom prst="rect">
            <a:avLst/>
          </a:prstGeom>
          <a:ln w="0">
            <a:noFill/>
          </a:ln>
        </p:spPr>
      </p:pic>
      <p:sp>
        <p:nvSpPr>
          <p:cNvPr id="127" name="Zaoblený obdélníkový popisek 6"/>
          <p:cNvSpPr/>
          <p:nvPr/>
        </p:nvSpPr>
        <p:spPr>
          <a:xfrm>
            <a:off x="1000080" y="2928960"/>
            <a:ext cx="2286000" cy="1428840"/>
          </a:xfrm>
          <a:prstGeom prst="wedgeRoundRectCallout">
            <a:avLst>
              <a:gd name="adj1" fmla="val 86300"/>
              <a:gd name="adj2" fmla="val 43300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vinné zaškrtnout v případě, že žadatel musí vybrat dodavatele výběrovým řízení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dmínky – Příloha č.10 „Závazné postupy pro zadávání zakázek…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aoblený obdélníkový popisek 7"/>
          <p:cNvSpPr/>
          <p:nvPr/>
        </p:nvSpPr>
        <p:spPr>
          <a:xfrm>
            <a:off x="1000080" y="4429080"/>
            <a:ext cx="1785960" cy="1214640"/>
          </a:xfrm>
          <a:prstGeom prst="wedgeRoundRectCallout">
            <a:avLst>
              <a:gd name="adj1" fmla="val 123703"/>
              <a:gd name="adj2" fmla="val -21509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škrtnout v případě plánovaných aktivit na snížení energetické náročnosti budo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985CB-0028-4C07-9725-2951C729BD08}" type="slidenum">
              <a:t>9</a:t>
            </a:fld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3:52:26Z</dcterms:created>
  <dc:creator>uzivatel</dc:creator>
  <dc:description/>
  <dc:language>en-US</dc:language>
  <cp:lastModifiedBy>Jírů</cp:lastModifiedBy>
  <dcterms:modified xsi:type="dcterms:W3CDTF">2009-06-26T07:22:54Z</dcterms:modified>
  <cp:revision>51</cp:revision>
  <dc:subject/>
  <dc:title>Snímek 1</dc:title>
</cp:coreProperties>
</file>