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85A0-1EED-4AAF-95C9-E8F6191CD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8142-F609-43A3-8CA2-8FB681A87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A88C-6220-42F3-9FE7-E9E6E7890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A3A9-C19C-4B8E-A043-FB89DA16B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DCD7-F20B-4813-8A1C-7F282D145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CEAB-84D2-4DF8-BD52-E88642225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6ECE-D6D5-4FF5-9009-EAB0B0919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6C12-4680-4376-A92F-DB1EDA965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865C-59C7-4A7C-9CAE-CAE843C6D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14D6-BDBF-4A04-AD44-CB299980E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03CC-ED89-4568-AA5E-B3664C351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4AF2-D179-43F5-B173-3B278A244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crr.cz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1280" y="6381720"/>
            <a:ext cx="68436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332000" y="634032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ntrum pro regionální rozvoj ČR; Vinohradská 46, 120 00 Praha 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.: + 420 221 580 201; Fax: + 420 221 580 284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rr.cz</a:t>
            </a:r>
            <a:r>
              <a:rPr b="0" lang="en-US" sz="1400" spc="-1" strike="noStrike">
                <a:solidFill>
                  <a:srgbClr val="ffe4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29200" y="6381720"/>
            <a:ext cx="514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A54-44CD-45C3-8043-2AFEDA58C3D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47640" y="6004080"/>
            <a:ext cx="7347240" cy="85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jiru@crr.cz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1197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 Unicode"/>
              </a:rPr>
              <a:t>Zlepšení prostředí v problémových sídlištích</a:t>
            </a:r>
            <a:endParaRPr b="0" lang="en-US" sz="4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68403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entrum pro regionální rozvoj Č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kud Příručka pro žadatele a příjemce, případně interní postupy žadatele/příjemce stanoví přísnější postup, musí se žadatel/příjemce těmito přísnějšími postupy řídi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kud výběrové řízení bude zahájeno po vyhlášení výzvy ŘO k předkládání projektů, žadatel/příjemce je povinen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předložit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Lucida Sans Unicode"/>
              </a:rPr>
              <a:t>zadávací dokumentaci ke schválení CRR 10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 pracovních dní před zveřejněním VŘ nebo před odesláním výzvy uchazečů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zaslat CRR prokazatelně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Lucida Sans Unicode"/>
              </a:rPr>
              <a:t>písemnou pozvánku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(elektronicky nebo listinně) na jednání hodnotící komise,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Lucida Sans Unicode"/>
              </a:rPr>
              <a:t>probíhá-li toto jednání po podpisu Rozhodnutí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  a to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Lucida Sans Unicode"/>
              </a:rPr>
              <a:t>nejpozději 7 kalendářních dnů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před jeho konání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předložit CRR zápis z jednání komise a smlouvu s dodavatele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RR se jednání hodnotící komise může zúčastnit jako pozorovat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683E-DA43-42D0-B932-5D6A5F031E80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imo režim zákona č. 137/2006 Sb. se týkají především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ů/příjemců, kteří zadávají zakázky malého rozsahu (zejména měst, bytových družstev, společenství vlastníků a dalších vlastníků bytových domů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ů/příjemců (s výjimkou měst), kteří zadávají zakázky s vyšší hodnotou (zejména bytových družstev, společenství vlastníků a dalších vlastníků bytových domů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7715-4EDD-4B17-A720-1AF2FC6B5F2E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Lucida Sans Unicode"/>
              </a:rPr>
              <a:t>Zakázky podle předpokládané hodnoty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zakázka malého rozsahu -</a:t>
            </a:r>
            <a:r>
              <a:rPr b="0" lang="cs-CZ" sz="2400" spc="-1" strike="noStrike">
                <a:solidFill>
                  <a:srgbClr val="333399"/>
                </a:solidFill>
                <a:latin typeface="Lucida Sans Unicode"/>
              </a:rPr>
              <a:t> předpokládaná hodnota nedosahuje v případě zakázek na dodávky a služby hodnoty 2 000 000 Kč bez DPH, v případě zakázek na stavební práce hodnoty 6 000 000 Kč bez DP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zakázka s vyšší hodnotou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-</a:t>
            </a:r>
            <a:r>
              <a:rPr b="0" lang="cs-CZ" sz="2400" spc="-1" strike="noStrike">
                <a:solidFill>
                  <a:srgbClr val="333399"/>
                </a:solidFill>
                <a:latin typeface="Lucida Sans Unicode"/>
              </a:rPr>
              <a:t> předpokládaná hodnota činí v případě zakázky na dodávky a služby nejméně 2 000 000 Kč bez DPH, v případě zakázky na stavební práce nejméně 6 000 000 Kč bez DP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E453-3407-4F82-8C30-F511D4766E2A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Lucida Sans Unicode"/>
              </a:rPr>
              <a:t>zakázky malého rozsahu:</a:t>
            </a:r>
            <a:r>
              <a:rPr b="1" lang="cs-CZ" sz="36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alého rozsahu 1. kategorie</a:t>
            </a: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(do 500 tis. Kč bez DPH)</a:t>
            </a:r>
            <a:r>
              <a:rPr b="1" lang="cs-CZ" sz="3200" spc="-1" strike="noStrike">
                <a:solidFill>
                  <a:srgbClr val="333399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přímý náku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dokladovatelno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nad 50 tis. Kč písemná smlou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408C-2ECD-45B4-A00F-A366FF4DECC4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alého rozsahu 2. kategorie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500 tis.Kč včetně do 1 mil. Kč, stavební práce od 500 tis. Kč včetně do 3 mil. Kč – ceny 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imálně 3 zájemců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15 dn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musí být ustanovena hodnotící komi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1815-5A52-4F9B-A729-2D07864933B7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alého rozsahu 3. kategorie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1 mil. Kč včetně do 2 mil.Kč, stavební práce od 3 mil. Kč včetně do 6 mil. Kč – ceny 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imálně 3 zájemců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15 dn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espoň 3členná hodnotící komi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ADCB-7CAE-4A68-9F04-740BE92B7948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zakázky s vyšší hodnotou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s vyšší hodnotou 1. kategorie</a:t>
            </a:r>
            <a:r>
              <a:rPr b="0" lang="en-US" sz="36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2 mil. Kč včetně do 5,857 mil. Kč, stavební práce od 6 mil. Kč včetně do 20 mil. Kč - ceny 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veřejnit v obchodním věstníku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. 5 zájemcům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22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n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604F-00BE-4E41-8C58-6CB33B42142B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s vyšší hodnotou 2. kategorie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5,857 mil. Kč včetně, stavební práce od 20 mil Kč včetně -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eny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veřejnit v obchodním věstníku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. 9 zájemcům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40 dní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A507-9F51-4ED7-B685-F3562590CFE4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Povinnosti zadavatele při zadávání zakázek malého rozsahu 2. a 3. kategorie a zakázek s vyšší hodnotou nad rámec Závazných postupů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v rámci výběrových řízení musí být dodržena pravidla publicity programu IOP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zejm. zadávací dokumentace u výběrových řízení zahájených po vyhlášení výzvy ŘO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musí být označeny symbolem Společenství a informací o finanční spoluúčasti Evropské unie, Evropského fondu pro regionální rozvoj v rámci Integrovaného operačního programu a prohlášením Řídícího orgánu IOP ve znění: „Šance pro Váš rozvoj“ -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líže viz příloha č. 3 Příručk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8D25-C904-4963-BFC2-6FD55836CC65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zadavatel nesmí rozdělit předmět zakázky, aby došlo ke snížení předpokládané hodnoty pod finanční limity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bod 6.4 Závazných postupů),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a zároveň musí vymezit předpokládanou cenu zakázky dle § 12 až § 16 zákona č. 137/2006 Sb., o veřejných zakázkách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75E2-B4E3-47E5-BD49-31BBD8E327C4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Lucida Sans Unicode"/>
              </a:rPr>
              <a:t>Zadávání zakázek</a:t>
            </a:r>
            <a:endParaRPr b="0" lang="en-US" sz="5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6090-5DAF-4B8D-B524-A0B6B5939E7C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v zadávací dokumentaci (výzvě/oznámení) kromě náležitostí uvedených v Závazných postupech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ákladní a profesní kvalifikační předpoklady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údaje o hodnotících kritériích a metodu jejich hodnocení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- dle odst. 4 § 50 zákona č. 137/2006 Sb. Ekonomické a finanční kvalifikační předpoklady a technické kvalifikační předpoklady (§ 56 – reference) nemohou být předmětem hodnotících kritérií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v případě zakázek na stavební práce - projektová dokumentace stavby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dávací lhůta musí být vždy stanovena s ohledem na charakter zakázky (musí být dostatečná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DB10-29E7-42FA-83A0-D2E180232B8D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se při hodnocení musí řídit pouze nabídkami uchazečů a hodnotit je podle předem stanovených kritérií (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článek 7, 9 a 10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musí respektovat výsledek hodnocení a uzavřít smlouvu s vítězným uchazečem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článek 8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je oprávněn zrušit výběrové řízení v souladu s článkem 12 Závazných postupů;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7E86-5111-4A13-B852-A7FC5E0C96B5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9320" y="691920"/>
            <a:ext cx="78962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davatel je vždy povinen posuzovat pouze vhodné nabídky uchazečů (za vhodné nelze považovat nabídky nepřijatelné podle § 22 odst. 1 písm. a) až f) zákona č. 137/2006 Sb.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davatel je povinen zachovat stejný přístup k informacím o zakázce všem uchazečům (viz článek 11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kázka musí být realizována na základě písemné smlouvy mezi zadavatelem a jedním či více dodavateli - smlouva musí obsahovat všechny povinné náležitosti (bod 8.3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(při uzavírání případného Dodatku ke smlouvě s dodavatelem je zadavatel povinen řídit se zákonem č. 137/2006 Sb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3CA2-DF80-437A-9F57-7149F7B3A51F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je povinen informovat CRR o změnách, které nastaly v průběhu výběrového řízení nebo realizace zakázky prostřednictvím hlášení o pokroku, resp. monitorovací zpráv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nutno věnovat pozornost celému textu Závazných postupů (viz příloha č. 10 Příručky) - každá odchylka od Závazných postupů může vést k tomu, že výdaje budou vyhodnoceny jako nezpůsobilé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F844-8B7E-4B93-8E58-DBFCAEBCE626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48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gr. Miloš Jírů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 Unicode"/>
                <a:hlinkClick r:id="rId2"/>
              </a:rPr>
              <a:t>jiru@crr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,   tel. 221 596 55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ávací/výběrové řízení u aktivit spojených 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revitalizací veřejných prostranství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ůže být zahájeno a dokončeno před vydáním Rozhodnut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 aktivit spojených 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regenerací bytových domů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ohou být zadávací a výběrová řízení zahájena před vydáním potvrzení o způsobilosti projektu (vydává CRR), ale nesmí být před vydáním potvrzení o způsobilosti projektu dokončena, tj. nesmí být podepsána smlouva s dodavatelem a nesmí být dán první závazný příslib objednávk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4066-06CD-4E25-8A37-FCD12576B8C0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estliže má žadatel/příjemce zpracované přísnější interní postupy pro zadávání veřejných zakázek, je povinen se jimi řídit a poskytnout je pracovníkům CRR společně s dokumentací k výběrovému/zadávacímu řízení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každý zadavatel je povinen v souvislosti se zadáváním (veřejné) zakázky dodržovat zásady transparentnosti, rovného zacházení a zákazu diskriminace a předpokládaná hodnota zakázky, jakož i nabídková cena nabídky vybrané jako nejvýhodnější, musí odpovídat cenám v místě a čase obvyklý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66A6-700D-4352-BB5F-573831D2C4FD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RR poskytuje při přípravě zadávací dokumentace odborné konzultace s cílem ověřit, zda zadávací/výběrové řízení proběhlo nebo proběhne v souladu s podmínkami programu a platnými předpis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E268-4D3D-4BAF-944F-886C5BA9F8AF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0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59464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působilost nákladů je podmíněna dodržením pravidel hospodářské soutěže – pravidel pro zadávání veřejných zakázek!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eřejní zadavatelé uvedení v § 2 zákona 137/2006 Sb. postupují dle tohoto zákona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é, kteří nejsou zadavateli veřejných zakázek podle zákona 137/2006 Sb.  jsou povinni při zadávání všech zakázek potřebných pro realizaci projektu postupovat v souladu se Závaznými postupy pro zadávání zakázek spolufinancovaných EU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ejně postupují i veřejní zadavatelé při realizaci veřejných zakázek malého rozsahu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E394-8E0B-4578-97CA-0279EB7E598B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A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Lucida Sans Unicode"/>
              </a:rPr>
              <a:t>Postup pro zadávání veřejných zakázek dle zákona č. 137/2006 Sb., o veřejných zakázkách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kud bude zadávací řízení zahájeno po vyhlášení výzvy ŘO k předkládání projektů, žadatel/ příjemce dotace je povinen 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předložit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dávací dokumentaci ke schválení CRR 10 pracovních dní 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před zveřejněním ZŘ nebo před odesláním výzvy uchazečů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pozvat CRR jako pozorovatele 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na zasedání hodnotící komis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nejpozději 7 kalendářních dnů před jeho konání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F93E-CF34-4008-99BE-0B5D78FB6690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/příjemce je rovněž povinen předložit CRR zápis z jednání komise a smlouvu s dodavatelem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RR se jednání hodnotící komise může zúčastnit jako pozorovat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 rámci zadávacích řízení musí být dodržena pravidla publicity programu IOP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– blíže viz příloha č. 3 Příručky pro žadatele a příjemce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D490-CC3A-4589-9D47-FAFCDAF2DA9E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Lucida Sans Unicode"/>
              </a:rPr>
              <a:t>B) Postup pro zadávání veřejných zakázek, které nespadají do režimu zákona č.137/2006 Sb.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Lucida Sans Unicode"/>
              </a:rPr>
              <a:t>Závazné postupy pro zadávání zakázek spolufinancovaných ze zdrojů EU, nespadajících pod aplikaci zákona č. 137/2006 sb., o veřejných zakázkách, v programovém období 2007-2013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představují základní minimum v oblasti zadávání zakázek nespadajících pod působnost zákona č. 137/2006 Sb., které musí žadatelé/příjemci podpory plně respektova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– blíže viz příloha č. 10 Příručka pro žadatele a příjem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5E69-2B36-4898-83C4-0C642EFA62B3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52:26Z</dcterms:created>
  <dc:creator>uzivatel</dc:creator>
  <dc:description/>
  <dc:language>en-US</dc:language>
  <cp:lastModifiedBy>Jírů</cp:lastModifiedBy>
  <dcterms:modified xsi:type="dcterms:W3CDTF">2009-06-29T05:23:52Z</dcterms:modified>
  <cp:revision>76</cp:revision>
  <dc:subject/>
  <dc:title>Snímek 1</dc:title>
</cp:coreProperties>
</file>