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EE85-C333-4623-995E-617D6C695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4195-330D-42BD-839D-25E0752A8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80CD-95F9-4814-8E0C-9ECB43EEF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596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028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596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028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D9028-01B8-43CF-A2AF-78D59C912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80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70F3-912F-4392-A0E0-AA699D9A6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596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028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3200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596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6028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57F9-684E-4468-B24E-7C0A42A36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9799C-23D0-4CA6-870F-28487E5D2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006A-41B6-4979-B4A9-8DDA1FB5A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80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2E81-691A-4795-BF37-651E17DD0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7CC4-A90C-4112-A5BE-1150C7BBF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B59F-DF22-44BA-982A-3F2008D04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E315-CA20-4BB0-93AB-EAAD66663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crr.cz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1280" y="6381720"/>
            <a:ext cx="68436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332000" y="6340320"/>
            <a:ext cx="68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ntrum pro regionální rozvoj ČR; Vinohradská 46, 120 00 Praha 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l.: + 420 221 580 201; Fax: + 420 221 580 284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rr.cz</a:t>
            </a:r>
            <a:r>
              <a:rPr b="0" lang="en-US" sz="1400" spc="-1" strike="noStrike">
                <a:solidFill>
                  <a:srgbClr val="ffe4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29200" y="6381720"/>
            <a:ext cx="514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812E-B22F-4026-8EA7-DA78EFEB35B7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547640" y="6004080"/>
            <a:ext cx="7347240" cy="85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jiru@crr.cz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640" y="1197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 Unicode"/>
              </a:rPr>
              <a:t>Zlepšení prostředí v problémových sídlištích</a:t>
            </a:r>
            <a:endParaRPr b="0" lang="en-US" sz="4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92000" y="3500280"/>
            <a:ext cx="68403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entrum pro regionální rozvoj Č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okud Příručka pro žadatele a příjemce, případně interní postupy žadatele/příjemce stanoví přísnější postup, musí se žadatel/příjemce těmito přísnějšími postupy řídi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okud výběrové řízení bude zahájeno po vyhlášení výzvy ŘO k předkládání projektů, žadatel/příjemce je povinen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</a:rPr>
              <a:t>předložit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Lucida Sans Unicode"/>
              </a:rPr>
              <a:t>zadávací dokumentaci ke schválení CRR 10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</a:rPr>
              <a:t> pracovních dní před zveřejněním VŘ nebo před odesláním výzvy uchazečů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</a:rPr>
              <a:t>zaslat CRR prokazatelně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Lucida Sans Unicode"/>
              </a:rPr>
              <a:t>písemnou pozvánku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(elektronicky nebo listinně) na jednání hodnotící komise, 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Lucida Sans Unicode"/>
              </a:rPr>
              <a:t>probíhá-li toto jednání po podpisu Rozhodnutí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  a to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Lucida Sans Unicode"/>
              </a:rPr>
              <a:t>nejpozději 7 kalendářních dnů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před jeho konání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předložit CRR zápis z jednání komise a smlouvu s dodavatele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RR se jednání hodnotící komise může zúčastnit jako pozorovat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5FF9-5BCB-494A-9AC3-E9896F6BE235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mimo režim zákona č. 137/2006 Sb. se týkají především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žadatelů/příjemců, kteří zadávají zakázky malého rozsahu (zejména měst, bytových družstev, společenství vlastníků a dalších vlastníků bytových domů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žadatelů/příjemců (s výjimkou měst), kteří zadávají zakázky s vyšší hodnotou (zejména bytových družstev, společenství vlastníků a dalších vlastníků bytových domů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01D9-F142-45F9-A9E1-E14B68B88AFA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Lucida Sans Unicode"/>
              </a:rPr>
              <a:t>Zakázky podle předpokládané hodnoty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zakázka malého rozsahu -</a:t>
            </a:r>
            <a:r>
              <a:rPr b="0" lang="cs-CZ" sz="2400" spc="-1" strike="noStrike">
                <a:solidFill>
                  <a:srgbClr val="333399"/>
                </a:solidFill>
                <a:latin typeface="Lucida Sans Unicode"/>
              </a:rPr>
              <a:t> předpokládaná hodnota nedosahuje v případě zakázek na dodávky a služby hodnoty 2 000 000 Kč bez DPH, v případě zakázek na stavební práce hodnoty 6 000 000 Kč bez DPH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zakázka s vyšší hodnotou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-</a:t>
            </a:r>
            <a:r>
              <a:rPr b="0" lang="cs-CZ" sz="2400" spc="-1" strike="noStrike">
                <a:solidFill>
                  <a:srgbClr val="333399"/>
                </a:solidFill>
                <a:latin typeface="Lucida Sans Unicode"/>
              </a:rPr>
              <a:t> předpokládaná hodnota činí v případě zakázky na dodávky a služby nejméně 2 000 000 Kč bez DPH, v případě zakázky na stavební práce nejméně 6 000 000 Kč bez DPH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C404-F31A-4847-9630-DAAAE4FA8792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Lucida Sans Unicode"/>
              </a:rPr>
              <a:t>zakázky malého rozsahu:</a:t>
            </a:r>
            <a:r>
              <a:rPr b="1" lang="cs-CZ" sz="36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malého rozsahu 1. kategorie</a:t>
            </a: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(do 500 tis. Kč bez DPH)</a:t>
            </a:r>
            <a:r>
              <a:rPr b="1" lang="cs-CZ" sz="3200" spc="-1" strike="noStrike">
                <a:solidFill>
                  <a:srgbClr val="333399"/>
                </a:solidFill>
                <a:latin typeface="Lucida Sans Unicode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přímý nákup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dokladovatelnos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Lucida Sans Unicode"/>
              </a:rPr>
              <a:t>nad 50 tis. Kč písemná smlou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46F8-A6CA-4BA8-97B2-419664BD4D83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malého rozsahu 2. kategorie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dodávky a služby od 500 tis.Kč včetně do 1 mil. Kč, stavební práce od 500 tis. Kč včetně do 3 mil. Kč – ceny bez DP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ýzva minimálně 3 zájemců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hůta k podání nabídek min. 15 dní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emusí být ustanovena hodnotící komis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1173-B376-4A2E-8035-901BC03EE5E6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malého rozsahu 3. kategorie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dodávky a služby od 1 mil. Kč včetně do 2 mil.Kč, stavební práce od 3 mil. Kč včetně do 6 mil. Kč – ceny bez DP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ýzva minimálně 3 zájemců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hůta k podání nabídek min. 15 dní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3399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espoň 3členná hodnotící komis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6AD2-E557-4DF8-9B91-34CF5DA24F61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zakázky s vyšší hodnotou: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s vyšší hodnotou 1. kategorie</a:t>
            </a:r>
            <a:r>
              <a:rPr b="0" lang="en-US" sz="36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dodávky a služby od 2 mil. Kč včetně do 5,857 mil. Kč, stavební práce od 6 mil. Kč včetně do 20 mil. Kč - ceny bez DP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veřejnit v obchodním věstníku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ýzva min. 5 zájemcům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hůta k podání nabídek min. 22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ní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3F97-DD30-4CF6-8D6B-9F5E1BAFDB17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kázky s vyšší hodnotou 2. kategorie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dodávky a služby od 5,857 mil. Kč včetně, stavební práce od 20 mil Kč včetně -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eny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ez DP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veřejnit v obchodním věstníku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ýzva min. 9 zájemcům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hůta k podání nabídek min. 40 dní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7809-5CF5-4BCE-A10C-E5E1980D96E1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Povinnosti zadavatele při zadávání zakázek malého rozsahu 2. a 3. kategorie a zakázek s vyšší hodnotou nad rámec Závazných postupů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v rámci výběrových řízení musí být dodržena pravidla publicity programu IOP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zejm. zadávací dokumentace u výběrových řízení zahájených po vyhlášení výzvy ŘO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musí být označeny symbolem Společenství a informací o finanční spoluúčasti Evropské unie, Evropského fondu pro regionální rozvoj v rámci Integrovaného operačního programu a prohlášením Řídícího orgánu IOP ve znění: „Šance pro Váš rozvoj“ -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blíže viz příloha č. 3 Příručk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FC5B-A734-466B-99EB-7ABF3C7A1C59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zadavatel nesmí rozdělit předmět zakázky, aby došlo ke snížení předpokládané hodnoty pod finanční limity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(bod 6.4 Závazných postupů),</a:t>
            </a: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 a zároveň musí vymezit předpokládanou cenu zakázky dle § 12 až § 16 zákona č. 137/2006 Sb., o veřejných zakázkách 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7179-D736-474F-9BA0-271E24160EF9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Lucida Sans Unicode"/>
              </a:rPr>
              <a:t>Zadávání zakázek</a:t>
            </a:r>
            <a:endParaRPr b="0" lang="en-US" sz="5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FD19-43E5-4E86-AED5-FCA416E621E1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v zadávací dokumentaci (výzvě/oznámení) kromě náležitostí uvedených v Závazných postupech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ákladní a profesní kvalifikační předpoklady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údaje o hodnotících kritériích a metodu jejich hodnocení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- dle odst. 4 § 50 zákona č. 137/2006 Sb. Ekonomické a finanční kvalifikační předpoklady a technické kvalifikační předpoklady (§ 56 – reference) nemohou být předmětem hodnotících kritérií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v případě zakázek na stavební práce - projektová dokumentace stavby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adávací lhůta musí být vždy stanovena s ohledem na charakter zakázky (musí být dostatečná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5CF5-CAA4-4AE2-8DBF-A5FCE2D18A05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avatel se při hodnocení musí řídit pouze nabídkami uchazečů a hodnotit je podle předem stanovených kritérií (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článek 7, 9 a 10 Závazných postupů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avatel musí respektovat výsledek hodnocení a uzavřít smlouvu s vítězným uchazečem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článek 8 Závazných postupů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avatel je oprávněn zrušit výběrové řízení v souladu s článkem 12 Závazných postupů;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8739-A60A-4A70-9660-C54731C0BD7D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9320" y="691920"/>
            <a:ext cx="78962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adavatel je vždy povinen posuzovat pouze vhodné nabídky uchazečů (za vhodné nelze považovat nabídky nepřijatelné podle § 22 odst. 1 písm. a) až f) zákona č. 137/2006 Sb.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adavatel je povinen zachovat stejný přístup k informacím o zakázce všem uchazečům (viz článek 11 Závazných postupů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zakázka musí být realizována na základě písemné smlouvy mezi zadavatelem a jedním či více dodavateli - smlouva musí obsahovat všechny povinné náležitosti (bod 8.3 Závazných postupů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(při uzavírání případného Dodatku ke smlouvě s dodavatelem je zadavatel povinen řídit se zákonem č. 137/2006 Sb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.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A818-7ED1-4B3D-B99B-51F7B22358A2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avatel je povinen informovat CRR o změnách, které nastaly v průběhu výběrového řízení nebo realizace zakázky prostřednictvím hlášení o pokroku, resp. monitorovací zpráv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nutno věnovat pozornost celému textu Závazných postupů (viz příloha č. 10 Příručky) - každá odchylka od Závazných postupů může vést k tomu, že výdaje budou vyhodnoceny jako nezpůsobilé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CBA5-EF99-477E-BC54-4244472ADD24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48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Sans Unicode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gr. Miloš Jírů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 Unicode"/>
                <a:hlinkClick r:id="rId2"/>
              </a:rPr>
              <a:t>jiru@crr.c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,   tel. 221 596 55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adávací/výběrové řízení u aktivit spojených s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revitalizací veřejných prostranství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ůže být zahájeno a dokončeno před vydáním Rozhodnutí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 aktivit spojených s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regenerací bytových domů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ohou být zadávací a výběrová řízení zahájena před vydáním potvrzení o způsobilosti projektu (vydává CRR), ale nesmí být před vydáním potvrzení o způsobilosti projektu dokončena, tj. nesmí být podepsána smlouva s dodavatelem a nesmí být dán první závazný příslib objednávk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E11F-5425-4C7C-A82C-AADC5E85C9A7}" type="slidenum">
              <a:t>3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estliže má žadatel/příjemce zpracované přísnější interní postupy pro zadávání veřejných zakázek, je povinen se jimi řídit a poskytnout je pracovníkům CRR společně s dokumentací k výběrovému/zadávacímu řízení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každý zadavatel je povinen v souvislosti se zadáváním (veřejné) zakázky dodržovat zásady transparentnosti, rovného zacházení a zákazu diskriminace a předpokládaná hodnota zakázky, jakož i nabídková cena nabídky vybrané jako nejvýhodnější, musí odpovídat cenám v místě a čase obvyklý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A66A-A9B8-4565-858A-54FE5FC4982E}" type="slidenum">
              <a:t>4</a:t>
            </a:fld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RR poskytuje při přípravě zadávací dokumentace odborné konzultace s cílem ověřit, zda zadávací/výběrové řízení proběhlo nebo proběhne v souladu s podmínkami programu a platnými předpis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A49A-7789-476B-8341-CF8A4AC512FB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0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59464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působilost nákladů je podmíněna dodržením pravidel hospodářské soutěže – pravidel pro zadávání veřejných zakázek!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eřejní zadavatelé uvedení v § 2 zákona 137/2006 Sb. postupují dle tohoto zákona.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Žadatelé, kteří nejsou zadavateli veřejných zakázek podle zákona 137/2006 Sb.  jsou povinni při zadávání všech zakázek potřebných pro realizaci projektu postupovat v souladu se Závaznými postupy pro zadávání zakázek spolufinancovaných EU.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ejně postupují i veřejní zadavatelé při realizaci veřejných zakázek malého rozsahu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72E8-15B6-4CE2-926E-47C8D2DBB378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A)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Lucida Sans Unicode"/>
              </a:rPr>
              <a:t>Postup pro zadávání veřejných zakázek dle zákona č. 137/2006 Sb., o veřejných zakázkách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kud bude zadávací řízení zahájeno po vyhlášení výzvy ŘO k předkládání projektů, žadatel/ příjemce dotace je povinen 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předložit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zadávací dokumentaci ke schválení CRR 10 pracovních dní 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před zveřejněním ZŘ nebo před odesláním výzvy uchazečům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pozvat CRR jako pozorovatele 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na zasedání hodnotící komise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Lucida Sans Unicode"/>
              </a:rPr>
              <a:t>nejpozději 7 kalendářních dnů před jeho konání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669B-27C2-4439-BA0C-DF0E9CA64B6A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žadatel/příjemce je rovněž povinen předložit CRR zápis z jednání komise a smlouvu s dodavatelem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RR se jednání hodnotící komise může zúčastnit jako pozorovat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 rámci zadávacích řízení musí být dodržena pravidla publicity programu IOP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– blíže viz příloha č. 3 Příručky pro žadatele a příjemce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C348-1BD4-4427-8A70-DC1AB1FD161C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adávání zakázek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Lucida Sans Unicode"/>
              </a:rPr>
              <a:t>B) Postup pro zadávání veřejných zakázek, které nespadají do režimu zákona č.137/2006 Sb.: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Lucida Sans Unicode"/>
              </a:rPr>
              <a:t>Závazné postupy pro zadávání zakázek spolufinancovaných ze zdrojů EU, nespadajících pod aplikaci zákona č. 137/2006 sb., o veřejných zakázkách, v programovém období 2007-2013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představují základní minimum v oblasti zadávání zakázek nespadajících pod působnost zákona č. 137/2006 Sb., které musí žadatelé/příjemci podpory plně respektova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– blíže viz příloha č. 10 Příručka pro žadatele a příjemc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D404-ACB8-4F01-8143-D1C432BC2DC0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52:26Z</dcterms:created>
  <dc:creator>uzivatel</dc:creator>
  <dc:description/>
  <dc:language>en-US</dc:language>
  <cp:lastModifiedBy>Jírů</cp:lastModifiedBy>
  <dcterms:modified xsi:type="dcterms:W3CDTF">2009-06-29T05:23:52Z</dcterms:modified>
  <cp:revision>76</cp:revision>
  <dc:subject/>
  <dc:title>Snímek 1</dc:title>
</cp:coreProperties>
</file>